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D7A-D6B8-4699-8AF0-392377CA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2BD-41CC-4EF3-8B99-185CE409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4E995-E473-4CBE-87E5-B7DA8FCB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1343C-7EC1-477A-A5BF-56771501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993D9-8748-477B-A700-388E4CD0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262B9-C41E-45D3-A084-251D456A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642D3-CF84-4999-AC03-A03C83FF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7B1F0-06C5-498A-B901-C67C3F49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2091E-4D39-4599-A9D6-9F860719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1B897-B46D-4FC8-A06B-EA11A522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38D2F-8554-45A1-A992-684CAA4B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65A-CB92-4FDF-83BB-CFBB909F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84CD-8B35-473C-A34F-2C760C3C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2C01-865D-4E93-A623-34D2D071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688D-DA68-49A1-B42B-7DCE9D79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6EF2-6341-4085-BC3C-0835EC69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010B-C153-460D-876D-65E5E938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E3E9-6DAB-4787-A58B-D7A8796E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6D1B-A41B-476E-952E-8059A937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21CE-F110-4F44-857A-0A6D3A0F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887-6285-4C49-8DBD-12318C03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A43F-C42E-4743-837B-A4FAE4E9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5251-6C0E-4D3F-A5D7-426BEBB9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899A-0B90-4685-9490-A71156E2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1821-FA3B-4A3E-9AC8-49FACA18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68CD-63F9-4869-99A8-5B8929E8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A101-3432-4B6C-B1D0-9C47DC8B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8A1E5-4117-4E01-8B51-E1FDA322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8067-28B8-46B7-9659-1AB996C3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8FBF-B809-456B-A262-14F0CEEF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DDE26-AC4B-4B1B-B609-3277F236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568-AD0C-4A4E-90DF-8E4D3C09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D38B5-48D2-40F2-85DA-DBAD2320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D395E-CC18-4C1F-8B4E-F435656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256C2-0B19-4040-8922-EA47C5A4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EDA8-B068-43B6-80E0-391DB698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93619-6BB4-44FF-94B2-810C40C9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A6D69-2421-4264-995D-835FF3D6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1D7F-D028-457F-9E97-ED559E24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BF2BA-7D8A-4432-BCE2-B328B245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9A80D-2AFA-4F87-866D-7DB65774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D795B-4755-4B7D-87EF-63621C9E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B06-F4C1-45AF-A9A1-4748C271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A309C-45A4-4A58-BD32-3FB214F6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58FC-87E4-484B-864D-F8556462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99A05-54BF-494E-A8B0-34ABC00B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D33AF-712F-4963-99B4-5F6A9B3A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D6DF4-9220-4B02-92E4-626E9EEA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99AAF-A9E5-4155-B9DD-FA665499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D328E-E098-41F1-AFA0-98BDACF3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9DA68-1DC1-4BA6-88E1-4547FDE9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6FA8F-C795-4DFA-B8FC-5B1EF32B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F10FF-A886-45E3-B4FC-7855FAF5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F90-DD0A-4527-B6FB-0F75117E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F5830-407C-464D-A899-4A3A907A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C3450-4D11-4C34-9F41-B2756899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A15B3-4F3D-42D4-9ABB-82EFDAE4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3887B-DB06-4471-B446-D900C3AF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37591-D248-4410-949E-491F93B4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D8537-F4DA-46BC-BC8B-4A389C86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F66EE-A3C1-4E17-A985-4890ED22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B0922-5750-44C3-9820-EB982BE5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4C5E7-6621-4DED-A66E-8D4DCB44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E2BA8-1884-4C80-80E9-1F204082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142-3723-4FE2-81DF-19D4924C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96300-07A5-4738-877C-A695A8E8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CAFDD-6297-4C73-9C3A-E367F29F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388ED-BF5C-4A53-9240-037747AC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013E7-BCC9-41D1-B625-DB8F356B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256F7-087D-4023-8B51-D4D5A234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07CE4-3F36-4E8D-A42C-C53D075B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45B47-DC49-4010-B18F-682F9937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A1E3B-4E5F-4D9A-8495-E73D01F1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D4657-2C1F-47B6-8C94-F5603B6C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A3FA5-F875-4ED7-870C-3AC16564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111-DAAC-45DE-9664-8979D134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6C700-E3EA-422D-A2E4-67BE597B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B6399-162A-401C-8238-592467A0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E4DAD-1955-4D6B-A209-394A7617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68785-CE97-4B86-B47E-FA910468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32A5B-3DF8-422A-B054-B7AF28B6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780C7-2894-4022-AF35-2EBB54DB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84164-5ACE-4F20-BE06-1263E88C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2BD1A-E96B-4B8C-86F3-C7E5FE62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E3B8D-9271-4AA4-9C6E-225AB579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8A174-E023-4625-89A8-316C0E55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31D-B912-48D4-9B1E-01067A89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E7FEE-F36E-4CCB-B224-0789916B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8350D-6D31-4977-8BFB-104DB751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E0248-6621-489D-8019-383879A9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32582-1DBB-4B6B-BA0A-1E575444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0DD76-2E55-4660-BBD4-C32F7916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AD75E-9AA0-4111-B1B8-AD1BC674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A8A13-2CD9-478D-816F-A1BA28D0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F9CBA-F95A-4D0E-B5B2-920E4B55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7E48B-7BB3-4231-8942-6B846625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4354B-FC97-4274-9B5A-1F239685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1CD-DC20-465C-B1A1-4B572CA7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755F6-E108-489C-BF10-9E36175B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EC4C9-6FD5-4906-96A4-B37DBDE5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DFE28-9362-4A1F-A470-784E96A3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3EABD-2C68-490A-AF5C-755B69E2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29A54-0D81-4740-BFD5-773B2235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4C91F-34DE-45E0-95FF-232BDBB1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F657D-CBBA-4921-B03B-5A6FEDF4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C900D-A1F7-45ED-B9C3-AE41853C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A19FC-BE8A-4624-A43C-16C6C602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A6B68-A1D4-4AB2-B403-C3845784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8C59-1A51-43D6-82AC-BD33D6B129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4F7A-6765-49ED-99B6-E1BA5236D7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4520-9F23-4694-8817-3A250C00062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2F86-50CB-41F9-86A4-8BE0945ACC4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AC5D-3938-4C5E-AA46-53A2844930F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15AA-8082-480B-9911-8E5BA23663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215D-0DAE-4E57-94CD-38140779D39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C717-46B9-4969-A5D7-FC22D6093C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D25B-447E-4444-9A3F-5399FE745D5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3"/>
          <p:cNvSpPr/>
          <p:nvPr/>
        </p:nvSpPr>
        <p:spPr>
          <a:xfrm>
            <a:off x="3708360" y="1557360"/>
            <a:ext cx="18432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0" name="Прямоугольник 4" descr=""/>
          <p:cNvPicPr/>
          <p:nvPr/>
        </p:nvPicPr>
        <p:blipFill>
          <a:blip r:embed="rId2"/>
          <a:stretch/>
        </p:blipFill>
        <p:spPr>
          <a:xfrm>
            <a:off x="2206800" y="1030320"/>
            <a:ext cx="4438440" cy="124920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Colours_Song_2_British_English_.jpg"/>
          <p:cNvPicPr/>
          <p:nvPr/>
        </p:nvPicPr>
        <p:blipFill>
          <a:blip r:embed="rId3"/>
          <a:srcRect l="0" t="12493" r="0" b="11675"/>
          <a:stretch/>
        </p:blipFill>
        <p:spPr>
          <a:xfrm>
            <a:off x="2484360" y="3357720"/>
            <a:ext cx="3797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Прямоугольник 1" descr=""/>
          <p:cNvPicPr/>
          <p:nvPr/>
        </p:nvPicPr>
        <p:blipFill>
          <a:blip r:embed="rId1"/>
          <a:stretch/>
        </p:blipFill>
        <p:spPr>
          <a:xfrm>
            <a:off x="2840040" y="950760"/>
            <a:ext cx="3322800" cy="11034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" descr="colors.jpg"/>
          <p:cNvPicPr/>
          <p:nvPr/>
        </p:nvPicPr>
        <p:blipFill>
          <a:blip r:embed="rId2"/>
          <a:srcRect l="0" t="18898" r="0" b="0"/>
          <a:stretch/>
        </p:blipFill>
        <p:spPr>
          <a:xfrm>
            <a:off x="2268360" y="2781360"/>
            <a:ext cx="45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Прямоугольник 1" descr=""/>
          <p:cNvPicPr/>
          <p:nvPr/>
        </p:nvPicPr>
        <p:blipFill>
          <a:blip r:embed="rId1"/>
          <a:stretch/>
        </p:blipFill>
        <p:spPr>
          <a:xfrm>
            <a:off x="2840040" y="487440"/>
            <a:ext cx="3395520" cy="118908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2" descr="boykin_spaniel2.jpg"/>
          <p:cNvPicPr/>
          <p:nvPr/>
        </p:nvPicPr>
        <p:blipFill>
          <a:blip r:embed="rId2"/>
          <a:stretch/>
        </p:blipFill>
        <p:spPr>
          <a:xfrm>
            <a:off x="2556000" y="1989000"/>
            <a:ext cx="39607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Прямоугольник 1" descr=""/>
          <p:cNvPicPr/>
          <p:nvPr/>
        </p:nvPicPr>
        <p:blipFill>
          <a:blip r:embed="rId1"/>
          <a:stretch/>
        </p:blipFill>
        <p:spPr>
          <a:xfrm>
            <a:off x="3382920" y="109440"/>
            <a:ext cx="2603520" cy="115884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2" descr="i.jpg"/>
          <p:cNvPicPr/>
          <p:nvPr/>
        </p:nvPicPr>
        <p:blipFill>
          <a:blip r:embed="rId2"/>
          <a:stretch/>
        </p:blipFill>
        <p:spPr>
          <a:xfrm>
            <a:off x="2411280" y="180828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Прямоугольник 1" descr=""/>
          <p:cNvPicPr/>
          <p:nvPr/>
        </p:nvPicPr>
        <p:blipFill>
          <a:blip r:embed="rId1"/>
          <a:stretch/>
        </p:blipFill>
        <p:spPr>
          <a:xfrm>
            <a:off x="2620800" y="622440"/>
            <a:ext cx="3829320" cy="114588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2" descr="11442912_digo.jpg"/>
          <p:cNvPicPr/>
          <p:nvPr/>
        </p:nvPicPr>
        <p:blipFill>
          <a:blip r:embed="rId2"/>
          <a:stretch/>
        </p:blipFill>
        <p:spPr>
          <a:xfrm>
            <a:off x="1908000" y="2637000"/>
            <a:ext cx="48294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Прямоугольник 1" descr=""/>
          <p:cNvPicPr/>
          <p:nvPr/>
        </p:nvPicPr>
        <p:blipFill>
          <a:blip r:embed="rId1"/>
          <a:stretch/>
        </p:blipFill>
        <p:spPr>
          <a:xfrm>
            <a:off x="2981160" y="457200"/>
            <a:ext cx="3181680" cy="132876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2" descr="yellow-sun.gif"/>
          <p:cNvPicPr/>
          <p:nvPr/>
        </p:nvPicPr>
        <p:blipFill>
          <a:blip r:embed="rId2"/>
          <a:stretch/>
        </p:blipFill>
        <p:spPr>
          <a:xfrm>
            <a:off x="2124000" y="1916280"/>
            <a:ext cx="46674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Прямоугольник 1" descr=""/>
          <p:cNvPicPr/>
          <p:nvPr/>
        </p:nvPicPr>
        <p:blipFill>
          <a:blip r:embed="rId1"/>
          <a:stretch/>
        </p:blipFill>
        <p:spPr>
          <a:xfrm>
            <a:off x="3303720" y="457200"/>
            <a:ext cx="2261880" cy="132876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2" descr="1311050603_72745110_apples.jpg"/>
          <p:cNvPicPr/>
          <p:nvPr/>
        </p:nvPicPr>
        <p:blipFill>
          <a:blip r:embed="rId2"/>
          <a:stretch/>
        </p:blipFill>
        <p:spPr>
          <a:xfrm>
            <a:off x="2700360" y="1773360"/>
            <a:ext cx="354960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10:43:31Z</dcterms:created>
  <dc:creator>Пользователь</dc:creator>
  <dc:description/>
  <dc:language>en-US</dc:language>
  <cp:lastModifiedBy>Пользователь</cp:lastModifiedBy>
  <dcterms:modified xsi:type="dcterms:W3CDTF">2013-05-20T11:13:46Z</dcterms:modified>
  <cp:revision>3</cp:revision>
  <dc:subject/>
  <dc:title>Слайд 1</dc:title>
</cp:coreProperties>
</file>