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8A0-6455-4F8C-AFE8-F83399E2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D0A-04A8-4BE7-A8E2-8BC61115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718-06CB-4E64-8750-D92BAF67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FC6-2FC4-45FC-9C79-DF698292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9691-628D-4269-A744-30C1D62C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5BF4-5BC2-475F-A00C-016133E6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3E76-627C-42CC-A6CA-0F0EF362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B2F8-9564-4DEB-9538-F05C0486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01D0-052D-46C3-8732-8B843CB6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D816-FC9D-4447-BA14-86FA1789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7239-4D8B-4ADB-8EDA-B35BA0DF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6BF-D83B-4541-8944-815880AD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07D7-C9B8-4BAC-AC1F-7922E494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CDC9-44C3-4890-BE3B-89F06F57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5CD8-A68D-4E1D-B73A-E15E053A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3F79-2021-450E-97CF-F49C30DB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4074-1B84-4C63-93B9-05E8F84E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26D-60C1-4981-B3B8-C52C6E92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72B-3D62-47EB-A977-937E599E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3FE-D34A-4CD8-92B2-DD38E30B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10F-2941-448F-BF74-0910E4BD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5C6-58EC-4742-8A35-AA2864FC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416-BE29-444F-A20C-5B6C243E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44B-C2DD-468E-B6C9-EAA980CB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FE28-BAE5-45B4-97DC-2D1A97FE07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5215-CA66-42F7-AF42-267E4D994E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is presentation is made by Efimenko Ann, the pupil of school 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№3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Kadu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acher: Efimenko S.V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</a:t>
            </a: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We Love Kadui!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люблю посёлок Кадуй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Родина мо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ш посёлок самый лучший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ворю я вам не зря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ть у нас и знаменитость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соченная труба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ного наших взрослых жител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дят каждый день ту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наши энергет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м без них никак нельз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дь от того, что они трудятся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нас есть свет, тепло, горячая вода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fimenko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13" descr="046"/>
          <p:cNvPicPr/>
          <p:nvPr/>
        </p:nvPicPr>
        <p:blipFill>
          <a:blip r:embed="rId1"/>
          <a:stretch/>
        </p:blipFill>
        <p:spPr>
          <a:xfrm>
            <a:off x="826920" y="3933720"/>
            <a:ext cx="3313440" cy="218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IMG_6841"/>
          <p:cNvPicPr/>
          <p:nvPr/>
        </p:nvPicPr>
        <p:blipFill>
          <a:blip r:embed="rId2"/>
          <a:stretch/>
        </p:blipFill>
        <p:spPr>
          <a:xfrm>
            <a:off x="860400" y="1600200"/>
            <a:ext cx="32320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lcome to Kadui!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wish our native place prosperity, welfare, very good ecolog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8" descr="0_5c36_3206b95d_XL"/>
          <p:cNvPicPr/>
          <p:nvPr/>
        </p:nvPicPr>
        <p:blipFill>
          <a:blip r:embed="rId1"/>
          <a:stretch/>
        </p:blipFill>
        <p:spPr>
          <a:xfrm>
            <a:off x="1042920" y="1484280"/>
            <a:ext cx="2857680" cy="223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0_15043_ea20fbcc_L"/>
          <p:cNvPicPr/>
          <p:nvPr/>
        </p:nvPicPr>
        <p:blipFill>
          <a:blip r:embed="rId2"/>
          <a:stretch/>
        </p:blipFill>
        <p:spPr>
          <a:xfrm>
            <a:off x="1042920" y="3789360"/>
            <a:ext cx="2881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Thank you for your attention!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7" name="Picture 6" descr="37_b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19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My Native Place</a:t>
            </a:r>
            <a:r>
              <a:rPr b="0" lang="ru-RU" sz="6000" spc="-1" strike="noStrike">
                <a:solidFill>
                  <a:srgbClr val="999900"/>
                </a:solidFill>
                <a:latin typeface="Garamond"/>
              </a:rPr>
              <a:t> – </a:t>
            </a: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Kadui.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Picture 6" descr="fotosmallол"/>
          <p:cNvPicPr/>
          <p:nvPr/>
        </p:nvPicPr>
        <p:blipFill>
          <a:blip r:embed="rId1"/>
          <a:stretch/>
        </p:blipFill>
        <p:spPr>
          <a:xfrm>
            <a:off x="457200" y="1666800"/>
            <a:ext cx="4038480" cy="439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mg_6964"/>
          <p:cNvPicPr/>
          <p:nvPr/>
        </p:nvPicPr>
        <p:blipFill>
          <a:blip r:embed="rId2"/>
          <a:stretch/>
        </p:blipFill>
        <p:spPr>
          <a:xfrm>
            <a:off x="4716360" y="1628640"/>
            <a:ext cx="3959280" cy="4392720"/>
          </a:xfrm>
          <a:prstGeom prst="rect">
            <a:avLst/>
          </a:prstGeom>
          <a:ln w="0">
            <a:noFill/>
          </a:ln>
        </p:spPr>
      </p:pic>
      <p:pic>
        <p:nvPicPr>
          <p:cNvPr id="95" name="КАДУЙ ВОЛШЕБНЫЙ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675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8920" y="1483920"/>
            <a:ext cx="49690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lo! I’m Ann.                My surname is Efimenko. I’m in the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 form. I’m 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I live in Kadu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you ever heard of this name? Have you ever seen it on the map? Maybe yes, maybe no, but I like Kadui and I like to study English, that’s why I made this project about my native settlement Kadu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English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7" descr="008"/>
          <p:cNvPicPr/>
          <p:nvPr/>
        </p:nvPicPr>
        <p:blipFill>
          <a:blip r:embed="rId1"/>
          <a:stretch/>
        </p:blipFill>
        <p:spPr>
          <a:xfrm>
            <a:off x="5580000" y="1628640"/>
            <a:ext cx="3564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Kadui is situated in the south-western part of Vologda region. It is a perfect place for life!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9" name="Picture 9" descr="fotosmall"/>
          <p:cNvPicPr/>
          <p:nvPr/>
        </p:nvPicPr>
        <p:blipFill>
          <a:blip r:embed="rId1"/>
          <a:stretch/>
        </p:blipFill>
        <p:spPr>
          <a:xfrm>
            <a:off x="468360" y="2379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rossiya_kadui_4_12771319358941"/>
          <p:cNvPicPr/>
          <p:nvPr/>
        </p:nvPicPr>
        <p:blipFill>
          <a:blip r:embed="rId2"/>
          <a:stretch/>
        </p:blipFill>
        <p:spPr>
          <a:xfrm>
            <a:off x="4643280" y="23796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The name “Kadui” means “Juniper river”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2" name="Picture 10" descr="0_a3f7_9f20a247_XL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00"/>
                </a:solidFill>
                <a:latin typeface="Garamond"/>
              </a:rPr>
              <a:t>             </a:t>
            </a: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Our</a:t>
            </a: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Nature.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049"/>
          <p:cNvPicPr/>
          <p:nvPr/>
        </p:nvPicPr>
        <p:blipFill>
          <a:blip r:embed="rId1"/>
          <a:stretch/>
        </p:blipFill>
        <p:spPr>
          <a:xfrm>
            <a:off x="531720" y="1600200"/>
            <a:ext cx="3889440" cy="2189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ure of our region is very beautiful. There are a lot of forests, lakes and rivers in our region. There are some swamps near Kadui. The longest rivers are the Suda and the Andog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10" descr="31"/>
          <p:cNvPicPr/>
          <p:nvPr/>
        </p:nvPicPr>
        <p:blipFill>
          <a:blip r:embed="rId2"/>
          <a:stretch/>
        </p:blipFill>
        <p:spPr>
          <a:xfrm>
            <a:off x="539640" y="3933720"/>
            <a:ext cx="3888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Industry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827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eading branch of industry is power engineering. Other important industries in  Kadui are timber industry and food industry.  We have the only fish-farm in Vologda reg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6" descr="1263921321"/>
          <p:cNvPicPr/>
          <p:nvPr/>
        </p:nvPicPr>
        <p:blipFill>
          <a:blip r:embed="rId1"/>
          <a:stretch/>
        </p:blipFill>
        <p:spPr>
          <a:xfrm>
            <a:off x="4643280" y="23796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ducation, Sport, Culture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Picture 6" descr="023"/>
          <p:cNvPicPr/>
          <p:nvPr/>
        </p:nvPicPr>
        <p:blipFill>
          <a:blip r:embed="rId1"/>
          <a:stretch/>
        </p:blipFill>
        <p:spPr>
          <a:xfrm>
            <a:off x="1655640" y="1600200"/>
            <a:ext cx="1641600" cy="218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three secondary schools, a technical secondary school, a sport complex, a sport school, a swimming pool, a children’s art school. Our people are very talented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8" descr="036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Our Sights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have got Museum of regional studies named after A. G. Yukov, who collected a lot of materials about our history and about our peop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thodox temple was built in 1997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IMG_6993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1"/>
          <p:cNvPicPr/>
          <p:nvPr/>
        </p:nvPicPr>
        <p:blipFill>
          <a:blip r:embed="rId2"/>
          <a:stretch/>
        </p:blipFill>
        <p:spPr>
          <a:xfrm>
            <a:off x="1476360" y="1484280"/>
            <a:ext cx="27352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6:07:25Z</dcterms:created>
  <dc:creator>doomer</dc:creator>
  <dc:description/>
  <dc:language>en-US</dc:language>
  <cp:lastModifiedBy>Panda</cp:lastModifiedBy>
  <dcterms:modified xsi:type="dcterms:W3CDTF">2012-02-24T16:51:42Z</dcterms:modified>
  <cp:revision>13</cp:revision>
  <dc:subject/>
  <dc:title>           My Native Place.</dc:title>
</cp:coreProperties>
</file>