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1.jpeg" ContentType="image/jpeg"/>
  <Override PartName="/ppt/media/image33.jpeg" ContentType="image/jpeg"/>
  <Override PartName="/ppt/media/image41.jpeg" ContentType="image/jpeg"/>
  <Override PartName="/ppt/media/image45.jpeg" ContentType="image/jpeg"/>
  <Override PartName="/ppt/media/image32.png" ContentType="image/png"/>
  <Override PartName="/ppt/media/image30.png" ContentType="image/png"/>
  <Override PartName="/ppt/media/image42.png" ContentType="image/png"/>
  <Override PartName="/ppt/media/image39.png" ContentType="image/png"/>
  <Override PartName="/ppt/media/image43.jpeg" ContentType="image/jpeg"/>
  <Override PartName="/ppt/media/image34.png" ContentType="image/png"/>
  <Override PartName="/ppt/media/image46.png" ContentType="image/png"/>
  <Override PartName="/ppt/media/image47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8CE-F12B-44D4-91C1-20AE699D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C7E-E4F6-446A-ACB1-747046FB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45D-945A-4C91-90C5-87BF30DE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683-AD85-4CC9-8583-662AF134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C0D8-9D90-4647-80E0-1F373579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BE3D-871D-4D63-8D95-79D297E3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BD03-129A-48FB-8B4D-38F71236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81EA-7006-4046-8CDA-B51A7B61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D66-5169-4A76-8E79-8E97AE8A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7502-CD89-40A1-ACB0-BA8C311E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ECD5-8B96-44FE-9DC6-E016612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EB4-5411-4EE4-8F87-2CAE3CDA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D3D6-3BB3-47BC-95EB-9B1FEF28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B1F2-D634-46F6-951D-C2440329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9193-E551-434D-A6F5-650B9F83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9447-0A45-4B9B-A103-31B3364D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AEDB-C622-4E34-B757-1B42806D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4AE-D40E-4859-8D63-718270C1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EF9-6C45-4EEB-9B33-5BF6015E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80E-754A-4849-9247-AE789B6E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955-AD5C-4AA4-817B-13A41830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59E-DB69-4CBF-9D58-897B8877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4B9-8EDF-4845-93D6-F382885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C15-A5A0-4597-A3D2-299DB04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D434-7018-444A-A9F5-BB29BA0A3CB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1E7E-1760-474D-B2F5-EC4B3935AD4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Shushpan"/>
          <p:cNvPicPr/>
          <p:nvPr/>
        </p:nvPicPr>
        <p:blipFill>
          <a:blip r:embed="rId2"/>
          <a:stretch/>
        </p:blipFill>
        <p:spPr>
          <a:xfrm>
            <a:off x="0" y="3816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3"/>
          <a:stretch/>
        </p:blipFill>
        <p:spPr>
          <a:xfrm>
            <a:off x="900000" y="6021360"/>
            <a:ext cx="6631200" cy="105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фото поросят"/>
          <p:cNvPicPr/>
          <p:nvPr/>
        </p:nvPicPr>
        <p:blipFill>
          <a:blip r:embed="rId4"/>
          <a:stretch/>
        </p:blipFill>
        <p:spPr>
          <a:xfrm>
            <a:off x="0" y="0"/>
            <a:ext cx="1763640" cy="198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5787"/>
          <p:cNvPicPr/>
          <p:nvPr/>
        </p:nvPicPr>
        <p:blipFill>
          <a:blip r:embed="rId5"/>
          <a:stretch/>
        </p:blipFill>
        <p:spPr>
          <a:xfrm>
            <a:off x="6588000" y="4221000"/>
            <a:ext cx="20894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2"/>
          <a:stretch/>
        </p:blipFill>
        <p:spPr>
          <a:xfrm>
            <a:off x="396720" y="0"/>
            <a:ext cx="874728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620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summer it is gre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winter it is whi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call it Brother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ildren, am I righ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Кот и кролик на фото"/>
          <p:cNvPicPr/>
          <p:nvPr/>
        </p:nvPicPr>
        <p:blipFill>
          <a:blip r:embed="rId3"/>
          <a:stretch/>
        </p:blipFill>
        <p:spPr>
          <a:xfrm>
            <a:off x="0" y="249228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19556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2" descr=""/>
          <p:cNvPicPr/>
          <p:nvPr/>
        </p:nvPicPr>
        <p:blipFill>
          <a:blip r:embed="rId3"/>
          <a:stretch/>
        </p:blipFill>
        <p:spPr>
          <a:xfrm>
            <a:off x="450720" y="1536840"/>
            <a:ext cx="8242560" cy="477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Фото Baby-004"/>
          <p:cNvPicPr/>
          <p:nvPr/>
        </p:nvPicPr>
        <p:blipFill>
          <a:blip r:embed="rId4"/>
          <a:stretch/>
        </p:blipFill>
        <p:spPr>
          <a:xfrm>
            <a:off x="5435640" y="836640"/>
            <a:ext cx="370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19556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2" descr=""/>
          <p:cNvPicPr/>
          <p:nvPr/>
        </p:nvPicPr>
        <p:blipFill>
          <a:blip r:embed="rId3"/>
          <a:stretch/>
        </p:blipFill>
        <p:spPr>
          <a:xfrm>
            <a:off x="0" y="1127160"/>
            <a:ext cx="8101080" cy="359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Фильм Кот в шляпе"/>
          <p:cNvPicPr/>
          <p:nvPr/>
        </p:nvPicPr>
        <p:blipFill>
          <a:blip r:embed="rId4"/>
          <a:stretch/>
        </p:blipFill>
        <p:spPr>
          <a:xfrm>
            <a:off x="5724360" y="2133720"/>
            <a:ext cx="3419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71360"/>
            <a:ext cx="8242560" cy="11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-360" y="620640"/>
            <a:ext cx="6877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y Middling has a pig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little, not very bi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pink, not very gre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dirty, not very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good, not very naughty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humble, not very haughty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t very thin, not very fa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 would you give for a pig like th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1213348355_1"/>
          <p:cNvPicPr/>
          <p:nvPr/>
        </p:nvPicPr>
        <p:blipFill>
          <a:blip r:embed="rId3"/>
          <a:stretch/>
        </p:blipFill>
        <p:spPr>
          <a:xfrm>
            <a:off x="5076720" y="2133720"/>
            <a:ext cx="4067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de 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ppy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ig 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ty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ind…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t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C:\Documents and Settings\ученик\Рабочий стол\Животные\1288647393_2[1].jpg"/>
          <p:cNvPicPr/>
          <p:nvPr/>
        </p:nvPicPr>
        <p:blipFill>
          <a:blip r:embed="rId3"/>
          <a:stretch/>
        </p:blipFill>
        <p:spPr>
          <a:xfrm>
            <a:off x="4211640" y="3068640"/>
            <a:ext cx="4932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773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6840" y="5714640"/>
            <a:ext cx="3043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esting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3520" indent="-333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ortant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C:\Documents and Settings\ученик\Рабочий стол\Животные\1288730055_1[1].jpg"/>
          <p:cNvPicPr/>
          <p:nvPr/>
        </p:nvPicPr>
        <p:blipFill>
          <a:blip r:embed="rId3"/>
          <a:stretch/>
        </p:blipFill>
        <p:spPr>
          <a:xfrm>
            <a:off x="1000080" y="1020600"/>
            <a:ext cx="72151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2"/>
          <a:stretch/>
        </p:blipFill>
        <p:spPr>
          <a:xfrm>
            <a:off x="469800" y="133200"/>
            <a:ext cx="8240760" cy="1013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5571720"/>
            <a:ext cx="5400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я кошка красивее чем тво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го собака самая больш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C:\Documents and Settings\ученик\Рабочий стол\Животные\5123302[1].jpg"/>
          <p:cNvPicPr/>
          <p:nvPr/>
        </p:nvPicPr>
        <p:blipFill>
          <a:blip r:embed="rId3"/>
          <a:stretch/>
        </p:blipFill>
        <p:spPr>
          <a:xfrm>
            <a:off x="1143000" y="1241280"/>
            <a:ext cx="6858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s for me …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то касается мен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’m fond of pets.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Я очень люблю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favourite pets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ои любимые живот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live in a cage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ить в клет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take care of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заботиться 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re often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аще вс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autiful wings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расивые крыль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yellow bea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жёлтый клю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long tail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линный хвос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ny people are fond of pets. More often they are do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ts, hamsters, guinea-pigs and fish. As for me I lik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rrots. They are my favourite pets. They are clever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ice. I’ve got a parrot. His name is Kesha. He’s blue. He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t big, he’s little. He has got a small head, a yellow bea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short neck, two beautiful wings and a long tail. He l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a c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teach him to talk. He knows many words and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ak  well. He can answer to his name. I take care of hi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give him food and water every day. He likes fruit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egetables. He likes to fly, play and talk. I love him 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" descr="C:\Documents and Settings\ученик\Рабочий стол\Животные\5123302[1].jpg"/>
          <p:cNvPicPr/>
          <p:nvPr/>
        </p:nvPicPr>
        <p:blipFill>
          <a:blip r:embed="rId3"/>
          <a:stretch/>
        </p:blipFill>
        <p:spPr>
          <a:xfrm>
            <a:off x="6588000" y="52560"/>
            <a:ext cx="255600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426960" y="268200"/>
            <a:ext cx="839304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ick writes about his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animal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bi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) favourite subjects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) ham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. Nick is fond of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dog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hams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) parro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) guinea-pi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3. Nick’s pet lives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in a cag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at 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) in the forest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) in the pa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. Nicks parrot is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yellow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b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) orang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) b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5. Nick’s parrot has got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) a small neck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) a long ne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) a big neck</a:t>
            </a: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d) a short nec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бучающая: закрепление активной лексики, совершенствование навыков аудировани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оздание ситуаций успеха каждого уче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азвивающая: развитие навыка работы в паре, в группе, активности и внимания учащихся в групп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оспитательная: воспитание культуры общения, обучение игровому общению в группе, привитие интереса к иностранному язы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fond of, many people, p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like, I, as for me, parr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my, they, are, pets, favour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are, clever, nice, and, th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have, got, I, a parr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Kesha, his, is, n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words, many, knows, h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take care, I, pet, of, 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food, give, him, I, and, every day,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parrot, my, to fly, likes, play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5724360" y="1413000"/>
            <a:ext cx="3203640" cy="39607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 mistakes –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-2 mistakes 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-4 mistakes –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 4 mistakes–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2"/>
          <a:stretch/>
        </p:blipFill>
        <p:spPr>
          <a:xfrm>
            <a:off x="450720" y="-30240"/>
            <a:ext cx="8242560" cy="1011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483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33720" indent="-250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have a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s name is p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can do thi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can do th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ok at my do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cks he can do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love my do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3720" indent="-2505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love’s me to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7" descr="Собаки-йоги в необычных позах (12 фото)"/>
          <p:cNvPicPr/>
          <p:nvPr/>
        </p:nvPicPr>
        <p:blipFill>
          <a:blip r:embed="rId3"/>
          <a:stretch/>
        </p:blipFill>
        <p:spPr>
          <a:xfrm>
            <a:off x="3851280" y="1143000"/>
            <a:ext cx="47926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2"/>
          <a:stretch/>
        </p:blipFill>
        <p:spPr>
          <a:xfrm>
            <a:off x="469800" y="262080"/>
            <a:ext cx="8240760" cy="1152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556000" y="3906720"/>
            <a:ext cx="6130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lived two puss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merry, merry puss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ne’s grey, the other’s whit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merry, merry pu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ne’s grey, the other’s white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merry, merry pu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Фото котят"/>
          <p:cNvPicPr/>
          <p:nvPr/>
        </p:nvPicPr>
        <p:blipFill>
          <a:blip r:embed="rId3"/>
          <a:stretch/>
        </p:blipFill>
        <p:spPr>
          <a:xfrm>
            <a:off x="179280" y="1149480"/>
            <a:ext cx="4753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700000" y="4076640"/>
            <a:ext cx="5986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10400" indent="-3081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ckory, dickory dock duck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400" indent="-3081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ckory dickory duck dock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400" indent="-3081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ne’s grey, the other’s whit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400" indent="-3081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merry, merry pu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ne’s grey, the other’s whi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merry, merry pu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Фото котят"/>
          <p:cNvPicPr/>
          <p:nvPr/>
        </p:nvPicPr>
        <p:blipFill>
          <a:blip r:embed="rId3"/>
          <a:stretch/>
        </p:blipFill>
        <p:spPr>
          <a:xfrm>
            <a:off x="179280" y="189000"/>
            <a:ext cx="6840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Выучить стихи про живот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даточный материа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одготовить рассказ в письменной  и устной форм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 своём любимом живот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3" descr="C:\Documents and Settings\S@shka\Рабочий стол\0_21_2171_1140608320.jpg"/>
          <p:cNvPicPr/>
          <p:nvPr/>
        </p:nvPicPr>
        <p:blipFill>
          <a:blip r:embed="rId3"/>
          <a:stretch/>
        </p:blipFill>
        <p:spPr>
          <a:xfrm>
            <a:off x="468360" y="3500280"/>
            <a:ext cx="8280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4"/>
          <p:cNvSpPr txBox="1"/>
          <p:nvPr/>
        </p:nvSpPr>
        <p:spPr>
          <a:xfrm>
            <a:off x="2057400" y="2421000"/>
            <a:ext cx="51116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Impact"/>
              </a:rPr>
              <a:t>You are the bes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C:\Documents and Settings\ученик\Рабочий стол\Животные\1291583601_5[1].jpg"/>
          <p:cNvPicPr/>
          <p:nvPr/>
        </p:nvPicPr>
        <p:blipFill>
          <a:blip r:embed="rId3"/>
          <a:stretch/>
        </p:blipFill>
        <p:spPr>
          <a:xfrm>
            <a:off x="428760" y="1571760"/>
            <a:ext cx="8286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активизировать лексический материал по теме «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IMAL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практиковать учащихся в употреблении имен прилагательных в сравнительной и превосходной степе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актиковать учащихся в аудировании текста на иностранном язы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подготовить учащихся к рассказу о своём питомц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28760" y="10000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t’s cat is Pat’s black h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black cat likes to sit in my black c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C:\Documents and Settings\ученик\Рабочий стол\Животные\1291671862_dd[1].jpg"/>
          <p:cNvPicPr/>
          <p:nvPr/>
        </p:nvPicPr>
        <p:blipFill>
          <a:blip r:embed="rId3"/>
          <a:stretch/>
        </p:blipFill>
        <p:spPr>
          <a:xfrm>
            <a:off x="611280" y="2133720"/>
            <a:ext cx="82087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Гусь Домашние птицы"/>
          <p:cNvPicPr/>
          <p:nvPr/>
        </p:nvPicPr>
        <p:blipFill>
          <a:blip r:embed="rId3"/>
          <a:stretch/>
        </p:blipFill>
        <p:spPr>
          <a:xfrm>
            <a:off x="714240" y="1714680"/>
            <a:ext cx="771552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can skip and play footbal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ckey, tennis, basketb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can jump and I can ru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can have a lot of f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Фото Игоря Губарева: Дети обожают подвижные фотопостановки, особенно игру в бетманов."/>
          <p:cNvPicPr/>
          <p:nvPr/>
        </p:nvPicPr>
        <p:blipFill>
          <a:blip r:embed="rId3"/>
          <a:stretch/>
        </p:blipFill>
        <p:spPr>
          <a:xfrm>
            <a:off x="5148360" y="1197000"/>
            <a:ext cx="3995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-171360"/>
            <a:ext cx="8242560" cy="107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78588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 people live in the c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ere the houses are very tal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 people live in the coun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the houses are very smal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ut in the coun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the houses are small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gardens are very big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d in the cit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the houses are tal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re are no gardens at al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760" indent="-268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lick me to rate me!"/>
          <p:cNvPicPr/>
          <p:nvPr/>
        </p:nvPicPr>
        <p:blipFill>
          <a:blip r:embed="rId3"/>
          <a:stretch/>
        </p:blipFill>
        <p:spPr>
          <a:xfrm>
            <a:off x="179280" y="4286160"/>
            <a:ext cx="8785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242560" cy="787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23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’m not big. I’m little. I’m grey or wh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’m funny. I can run and jum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can’t fly and swim. I’m not str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live on the farm. I’m 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Фото Три весёлых гуся   :)"/>
          <p:cNvPicPr/>
          <p:nvPr/>
        </p:nvPicPr>
        <p:blipFill>
          <a:blip r:embed="rId3"/>
          <a:stretch/>
        </p:blipFill>
        <p:spPr>
          <a:xfrm>
            <a:off x="857160" y="2708280"/>
            <a:ext cx="7572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green, it can jump, it can swim in the river, it cannot fly, it cannot run, it is 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6" descr="жаба"/>
          <p:cNvPicPr/>
          <p:nvPr/>
        </p:nvPicPr>
        <p:blipFill>
          <a:blip r:embed="rId3"/>
          <a:stretch/>
        </p:blipFill>
        <p:spPr>
          <a:xfrm>
            <a:off x="179280" y="2133720"/>
            <a:ext cx="878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1:26:20Z</dcterms:created>
  <dc:creator>Гость</dc:creator>
  <dc:description/>
  <dc:language>en-US</dc:language>
  <cp:lastModifiedBy>user_2</cp:lastModifiedBy>
  <dcterms:modified xsi:type="dcterms:W3CDTF">2012-06-29T07:21:54Z</dcterms:modified>
  <cp:revision>48</cp:revision>
  <dc:subject/>
  <dc:title>ANIMALS</dc:title>
</cp:coreProperties>
</file>