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D07-BF3A-4913-8AF3-EBDEE222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3FD-E7B5-4C78-810B-B6051353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8AD-EB0A-4FDC-AA01-9CC6BF0C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257-1D10-4762-92CE-0C492237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901B-D95B-4F06-A535-5F56602A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59E9-1E29-46EE-A1E0-F8D57178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BE3D-7152-4B55-8AA3-72D7F3AE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0562-65C3-42C7-9094-E610ACAF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594E-DED2-4247-8176-68B55381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1A78-289E-41F3-B10D-FAD6DA42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E485-F972-4F6A-B41B-DFA19CA8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213-5B69-4A6A-B952-7F0918D4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A034-A950-4891-8EBD-B0B7F515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F7AF-B405-49BF-BB60-BD842380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66EB-1361-47C0-9F73-3AAEAB38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E09C-BBF0-4E21-9ECD-AE689601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3255-30A0-4F51-8BF7-23A5260A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C36-2D69-4646-94F9-0D6BE0E2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B35-85A5-4461-AD66-EC360231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465-B0F9-4FF4-92B6-6238EED4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A43-C5D0-45F5-82DE-F073C444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3A0-4C74-4AE2-9BA2-C100D2CF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6FB-D5FC-4BA7-8E27-C5FFAC4E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DA9-2C50-4EA7-BE77-F17D7833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8562-F4DC-4C25-8EB6-7A4F81C52F9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03CE-3681-46A5-9EFA-98495DFC3BE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oemhunter.com/poem/the-victory-day/" TargetMode="External"/><Relationship Id="rId2" Type="http://schemas.openxmlformats.org/officeDocument/2006/relationships/hyperlink" Target="http://www.poemhunter.com/poem/the-victory-day/" TargetMode="External"/><Relationship Id="rId3" Type="http://schemas.openxmlformats.org/officeDocument/2006/relationships/hyperlink" Target="http://www.poemhunter.com/poem/the-victory-day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b7250d"/>
                </a:solidFill>
                <a:latin typeface="Arial"/>
              </a:rPr>
              <a:t>The Victory Day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250d"/>
                </a:solidFill>
                <a:latin typeface="Verdana"/>
              </a:rPr>
              <a:t>Fedoseenko Kiri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250d"/>
                </a:solidFill>
                <a:latin typeface="Verdana"/>
              </a:rPr>
              <a:t>9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250d"/>
                </a:solidFill>
                <a:latin typeface="Verdana"/>
              </a:rPr>
              <a:t>Topchik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733920" y="518148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had laid down in the fields of figh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uggling for freedom and human righ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had given their lives for you and me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everyone to be free and live happily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the grass to be green, for the sk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be blue and cle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59056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2666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one in ancient times once said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f you want peace be ready for the war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words are not for toda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we shout “Hurray! 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26002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t if we want pe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have to do everything for love to incre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t not use military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ch is only the source of sufferings and the lo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th so many costs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5715000" y="2743200"/>
            <a:ext cx="26575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we celebrate this day and shout “Hurray”, say “Cheer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shing everyone live in lasting peace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to know a war decea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486400" y="266688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 remember the most impressive celeb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n two na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erican and Russian soldi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t on the banks of the Elbe and could finally se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nd of that horrible wa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th admiration and joyfully they embraced one an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 if they were old friends or even broth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2361960" cy="14288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6172200" y="3124080"/>
            <a:ext cx="2114640" cy="14288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4648320" y="4648320"/>
            <a:ext cx="2457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, today, on the 9th of May I would like to say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s of our planet Earth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ember! We are the part of the whole Univer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2667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care of our Land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eryone has to understand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want pe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have to do everything for love to increa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819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poemhunter.com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/poem/the-victory-day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ttp://im0-tub-ru.yandex.net/i?id=130133438-53-72&amp;n=2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ttp://im2-tub-ru.yandex.net/i?id=35337358-43-72&amp;n=2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ttp://im7-tub-ru.yandex.net/i?id=52259217-20-72&amp;n=2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votrube.ru/uploads/posts/2011-07/thumbs/1311454316_veterany-vov-34-foto-(www.votrube.ru)2.jp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9th of May – the Greatest Day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aint Holiday – the Victory Da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223812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holiday with glee and spree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holiday with tears that app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embering those soldiers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heroes of the Second World W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5638680" y="3962520"/>
            <a:ext cx="2362320" cy="14284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2162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ose hardcore day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don’t want to face anymo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1962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at was the largest w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history of mankind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don’t want you to be bli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t to know and remember the fact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most 58 million of men were lo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sn’t it the highest   cos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22669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2 countries ou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 7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ght against fascist reg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one international tea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114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re than 80% of the Earth popul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re involved in military operation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vering the territories of 40 countries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inging only grief, hunger, sufferings and worri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looked at the pictures of those young guys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ose heroes of the Second World W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tried to realize who they were befo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1905120" cy="12668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4648320" y="4876920"/>
            <a:ext cx="1904760" cy="1268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1981080" cy="13190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6781680" y="4876920"/>
            <a:ext cx="19051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’s difficult to guess but I would like to suggest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ong them was someone’s 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o had never seen a gun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one’s first student or a teacher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one’s darling, friend or a preac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18288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000</cp:lastModifiedBy>
  <dcterms:modified xsi:type="dcterms:W3CDTF">2013-04-18T13:05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