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wmf" ContentType="image/x-wmf"/>
  <Override PartName="/ppt/media/image57.jpeg" ContentType="image/jpeg"/>
  <Override PartName="/ppt/media/image20.wmf" ContentType="image/x-wmf"/>
  <Override PartName="/ppt/media/image55.jpeg" ContentType="image/jpeg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gif" ContentType="image/gif"/>
  <Override PartName="/ppt/media/image65.jpeg" ContentType="image/jpeg"/>
  <Override PartName="/ppt/media/image28.wmf" ContentType="image/x-wmf"/>
  <Override PartName="/ppt/media/image37.jpeg" ContentType="image/jpeg"/>
  <Override PartName="/ppt/media/image34.wmf" ContentType="image/x-wmf"/>
  <Override PartName="/ppt/media/image27.wmf" ContentType="image/x-wmf"/>
  <Override PartName="/ppt/media/image8.wmf" ContentType="image/x-wmf"/>
  <Override PartName="/ppt/media/image2.wmf" ContentType="image/x-wmf"/>
  <Override PartName="/ppt/media/image32.wmf" ContentType="image/x-wmf"/>
  <Override PartName="/ppt/media/image25.wmf" ContentType="image/x-wmf"/>
  <Override PartName="/ppt/media/image68.wmf" ContentType="image/x-wmf"/>
  <Override PartName="/ppt/media/image38.jpeg" ContentType="image/jpeg"/>
  <Override PartName="/ppt/media/image64.jpeg" ContentType="image/jpeg"/>
  <Override PartName="/ppt/media/image61.jpeg" ContentType="image/jpeg"/>
  <Override PartName="/ppt/media/image31.wmf" ContentType="image/x-wmf"/>
  <Override PartName="/ppt/media/image21.png" ContentType="image/png"/>
  <Override PartName="/ppt/media/image29.wmf" ContentType="image/x-wmf"/>
  <Override PartName="/ppt/media/image35.gif" ContentType="image/gif"/>
  <Override PartName="/ppt/media/image60.wmf" ContentType="image/x-wmf"/>
  <Override PartName="/ppt/media/image23.wmf" ContentType="image/x-wmf"/>
  <Override PartName="/ppt/media/image4.wmf" ContentType="image/x-wmf"/>
  <Override PartName="/ppt/media/image16.wmf" ContentType="image/x-wmf"/>
  <Override PartName="/ppt/media/image66.jpeg" ContentType="image/jpeg"/>
  <Override PartName="/ppt/media/image24.wmf" ContentType="image/x-wmf"/>
  <Override PartName="/ppt/media/image59.wmf" ContentType="image/x-wmf"/>
  <Override PartName="/ppt/media/image22.wmf" ContentType="image/x-wmf"/>
  <Override PartName="/ppt/media/image18.jpeg" ContentType="image/jpeg"/>
  <Override PartName="/ppt/media/image63.wmf" ContentType="image/x-wmf"/>
  <Override PartName="/ppt/media/image69.png" ContentType="image/png"/>
  <Override PartName="/ppt/media/image26.wmf" ContentType="image/x-wmf"/>
  <Override PartName="/ppt/media/image15.jpeg" ContentType="image/jpeg"/>
  <Override PartName="/ppt/media/image67.wmf" ContentType="image/x-wmf"/>
  <Override PartName="/ppt/media/image30.wmf" ContentType="image/x-wmf"/>
  <Override PartName="/ppt/media/image5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17.jpeg" ContentType="image/jpeg"/>
  <Override PartName="/ppt/media/image45.wmf" ContentType="image/x-wmf"/>
  <Override PartName="/ppt/media/image3.png" ContentType="image/png"/>
  <Override PartName="/ppt/media/image10.wmf" ContentType="image/x-wmf"/>
  <Override PartName="/ppt/media/image56.jpeg" ContentType="image/jpeg"/>
  <Override PartName="/ppt/media/image11.wmf" ContentType="image/x-wmf"/>
  <Override PartName="/ppt/media/image48.wmf" ContentType="image/x-wmf"/>
  <Override PartName="/ppt/media/image33.wmf" ContentType="image/x-wmf"/>
  <Override PartName="/ppt/media/image36.wmf" ContentType="image/x-wmf"/>
  <Override PartName="/ppt/media/image39.jpeg" ContentType="image/jpeg"/>
  <Override PartName="/ppt/media/image62.jpeg" ContentType="image/jpeg"/>
  <Override PartName="/ppt/media/image41.wmf" ContentType="image/x-wmf"/>
  <Override PartName="/ppt/media/image1.wmf" ContentType="image/x-wmf"/>
  <Override PartName="/ppt/media/image13.wmf" ContentType="image/x-wmf"/>
  <Override PartName="/ppt/media/image40.jpeg" ContentType="image/jpeg"/>
  <Override PartName="/ppt/media/image6.png" ContentType="image/png"/>
  <Override PartName="/ppt/media/image42.jpeg" ContentType="image/jpeg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59F-822F-4C89-9305-8348DDBB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362-16BB-4860-B3CE-6F2F8587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17F-6C9B-4B6E-9C30-7C2DEA16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04A5-9842-4ED7-80B7-F56C2B90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7DE-3187-49BE-8159-A767D738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1F5-A4A0-4DB0-AF7F-8431C5ED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E86-79B4-47FA-BD53-B2FCC537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4CA-26A2-47BC-BE0E-CD371B1E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5FA-09E8-49CD-B129-BAE78C85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CE1-DC28-4FFA-9B86-49A9AEEE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8DC-F774-4C62-8DA9-7D321B75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155-5E53-44B9-B09B-D223EEA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C2F54-4758-47AB-802D-B71F3C9D7D2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3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image" Target="../media/image29.wmf"/><Relationship Id="rId15" Type="http://schemas.openxmlformats.org/officeDocument/2006/relationships/image" Target="../media/image29.wm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gi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wmf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5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1619280" y="2421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Good afternoo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3059280" y="4437000"/>
            <a:ext cx="290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обрый ден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824040" y="2276640"/>
            <a:ext cx="74959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Напишите сло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в нужный столб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в соответствии с чтением гласны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"/>
          <p:cNvSpPr txBox="1"/>
          <p:nvPr/>
        </p:nvSpPr>
        <p:spPr>
          <a:xfrm>
            <a:off x="971640" y="333360"/>
            <a:ext cx="50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e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4" name="WordArt 2"/>
          <p:cNvSpPr txBox="1"/>
          <p:nvPr/>
        </p:nvSpPr>
        <p:spPr>
          <a:xfrm>
            <a:off x="5867280" y="620640"/>
            <a:ext cx="5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o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7812000" y="333360"/>
            <a:ext cx="568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  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7956720" y="333360"/>
            <a:ext cx="280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468360" y="3933720"/>
            <a:ext cx="504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u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3203640" y="4365720"/>
            <a:ext cx="48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I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5651640" y="4292640"/>
            <a:ext cx="62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a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7812000" y="3860640"/>
            <a:ext cx="62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o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755640" y="1268280"/>
            <a:ext cx="843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t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eg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3203640" y="1628640"/>
            <a:ext cx="838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p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h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3" name="WordArt 11"/>
          <p:cNvSpPr txBox="1"/>
          <p:nvPr/>
        </p:nvSpPr>
        <p:spPr>
          <a:xfrm>
            <a:off x="3348000" y="692280"/>
            <a:ext cx="434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I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14" name="WordArt 12"/>
          <p:cNvSpPr txBox="1"/>
          <p:nvPr/>
        </p:nvSpPr>
        <p:spPr>
          <a:xfrm>
            <a:off x="5724360" y="1557360"/>
            <a:ext cx="743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d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5" name="WordArt 13"/>
          <p:cNvSpPr txBox="1"/>
          <p:nvPr/>
        </p:nvSpPr>
        <p:spPr>
          <a:xfrm>
            <a:off x="7667640" y="1197000"/>
            <a:ext cx="990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ju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ju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6" name="WordArt 14"/>
          <p:cNvSpPr txBox="1"/>
          <p:nvPr/>
        </p:nvSpPr>
        <p:spPr>
          <a:xfrm>
            <a:off x="250920" y="5084640"/>
            <a:ext cx="1000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bo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co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7" name="WordArt 15"/>
          <p:cNvSpPr txBox="1"/>
          <p:nvPr/>
        </p:nvSpPr>
        <p:spPr>
          <a:xfrm>
            <a:off x="2771640" y="5373720"/>
            <a:ext cx="1257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tre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hee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8" name="WordArt 16"/>
          <p:cNvSpPr txBox="1"/>
          <p:nvPr/>
        </p:nvSpPr>
        <p:spPr>
          <a:xfrm>
            <a:off x="5580000" y="5300640"/>
            <a:ext cx="71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c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9" name="WordArt 17"/>
          <p:cNvSpPr txBox="1"/>
          <p:nvPr/>
        </p:nvSpPr>
        <p:spPr>
          <a:xfrm>
            <a:off x="7596360" y="5013360"/>
            <a:ext cx="115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po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hor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2484360" y="3170160"/>
            <a:ext cx="417528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I see 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124000" y="1628640"/>
            <a:ext cx="48243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пишите картинку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4140360" y="5102280"/>
            <a:ext cx="1800000" cy="1755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048360" y="189000"/>
            <a:ext cx="3095640" cy="2958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3635280" y="2637000"/>
            <a:ext cx="1812960" cy="141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303640" cy="193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4859280" y="5229360"/>
            <a:ext cx="1224000" cy="941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7308720" y="4724280"/>
            <a:ext cx="1424160" cy="1271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2916360" y="4076640"/>
            <a:ext cx="1714320" cy="1117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8"/>
          <a:stretch/>
        </p:blipFill>
        <p:spPr>
          <a:xfrm>
            <a:off x="4643280" y="3716280"/>
            <a:ext cx="1714680" cy="1117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9"/>
          <a:stretch/>
        </p:blipFill>
        <p:spPr>
          <a:xfrm>
            <a:off x="3564000" y="0"/>
            <a:ext cx="2592360" cy="20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10"/>
          <a:stretch/>
        </p:blipFill>
        <p:spPr>
          <a:xfrm>
            <a:off x="7093080" y="0"/>
            <a:ext cx="792000" cy="75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11"/>
          <a:stretch/>
        </p:blipFill>
        <p:spPr>
          <a:xfrm>
            <a:off x="0" y="3716280"/>
            <a:ext cx="2876400" cy="314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2"/>
          <a:stretch/>
        </p:blipFill>
        <p:spPr>
          <a:xfrm>
            <a:off x="2124000" y="189000"/>
            <a:ext cx="1841400" cy="1809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13"/>
          <a:stretch/>
        </p:blipFill>
        <p:spPr>
          <a:xfrm>
            <a:off x="2340000" y="2205000"/>
            <a:ext cx="1147680" cy="117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"/>
          <p:cNvPicPr/>
          <p:nvPr/>
        </p:nvPicPr>
        <p:blipFill>
          <a:blip r:embed="rId14"/>
          <a:stretch/>
        </p:blipFill>
        <p:spPr>
          <a:xfrm>
            <a:off x="4716360" y="3716280"/>
            <a:ext cx="1714680" cy="1117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"/>
          <p:cNvPicPr/>
          <p:nvPr/>
        </p:nvPicPr>
        <p:blipFill>
          <a:blip r:embed="rId15"/>
          <a:stretch/>
        </p:blipFill>
        <p:spPr>
          <a:xfrm>
            <a:off x="6659640" y="3357720"/>
            <a:ext cx="1714320" cy="11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1835280" y="1268280"/>
            <a:ext cx="54007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абочая тетрад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раница 6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пражнение 2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вариант- 2-5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 вариант- 5-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4500720" y="260280"/>
            <a:ext cx="40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 Is it an old plan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468360" y="1197000"/>
            <a:ext cx="417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3 Is it a green pon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4356000" y="1989000"/>
            <a:ext cx="431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Is he a bad ma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468360" y="2708280"/>
            <a:ext cx="46083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5 Is she a good m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4140360" y="3716280"/>
            <a:ext cx="44211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 Is it a black sheep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395280" y="4797360"/>
            <a:ext cx="432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7 Is he a happy da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4500720" y="5950080"/>
            <a:ext cx="403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8 Is it a cold han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16080"/>
            <a:ext cx="777240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826920" y="2637000"/>
            <a:ext cx="741708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Are you read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539640" y="76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80000" y="148428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020000" y="227664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00000" y="256536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067280" y="321300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7020000" y="422100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020000" y="47628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1781280" cy="1517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3780000" y="4724280"/>
            <a:ext cx="1780920" cy="1517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3"/>
          <a:stretch/>
        </p:blipFill>
        <p:spPr>
          <a:xfrm>
            <a:off x="7362720" y="5157720"/>
            <a:ext cx="178128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9640" y="151128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708360" y="69228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732720" y="1700280"/>
            <a:ext cx="16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11280" y="3284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G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268360" y="494172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716360" y="501336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804000" y="400536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zo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7380360" y="33336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2087280" cy="15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236000" y="333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9640" y="76500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hre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419640" y="148428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372360" y="22766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hre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55640" y="486900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lim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57200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659640" y="42926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324648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8086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ПОВТОРИМ </a:t>
            </a:r>
            <a:br>
              <a:rPr sz="6600"/>
            </a:b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ЗВУ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236000" y="47628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39640" y="191628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ou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780000" y="404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ou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659640" y="198900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ou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39640" y="436572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ou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851280" y="3213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372360" y="450864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flo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3276720" y="4292640"/>
            <a:ext cx="266364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449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2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2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451640" y="33336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39640" y="155736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708360" y="836640"/>
            <a:ext cx="156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516720" y="170028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755640" y="472428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Swi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851280" y="38606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443640" y="47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d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1708200" cy="187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251928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9079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i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492360" y="260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ev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732720" y="692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e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755640" y="386064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I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635280" y="508464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w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443640" y="41497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gre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900000" y="1989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4211640" y="126828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7524720" y="1844640"/>
            <a:ext cx="9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132084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55640" y="90792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i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780000" y="1628640"/>
            <a:ext cx="158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88000" y="98100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84360" y="4797360"/>
            <a:ext cx="24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ou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6227640" y="4724280"/>
            <a:ext cx="21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ag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042920" y="184464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227640" y="1916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1"/>
          <a:stretch/>
        </p:blipFill>
        <p:spPr>
          <a:xfrm>
            <a:off x="3492360" y="2781360"/>
            <a:ext cx="22114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0240" cy="16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1403280" y="1916280"/>
            <a:ext cx="64087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Задайте вопрос по картинке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2340000" y="3213000"/>
            <a:ext cx="410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What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Is it a...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1290600" cy="1825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2232000" cy="2005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3708360" y="4508640"/>
            <a:ext cx="1495440" cy="2163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4"/>
          <a:stretch/>
        </p:blipFill>
        <p:spPr>
          <a:xfrm>
            <a:off x="6732720" y="443700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5"/>
          <a:stretch/>
        </p:blipFill>
        <p:spPr>
          <a:xfrm>
            <a:off x="4284720" y="2924280"/>
            <a:ext cx="1857240" cy="1403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6"/>
          <a:stretch/>
        </p:blipFill>
        <p:spPr>
          <a:xfrm>
            <a:off x="900000" y="2781360"/>
            <a:ext cx="1584360" cy="1508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7"/>
          <a:stretch/>
        </p:blipFill>
        <p:spPr>
          <a:xfrm>
            <a:off x="7093080" y="765000"/>
            <a:ext cx="1555560" cy="2541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8"/>
          <a:stretch/>
        </p:blipFill>
        <p:spPr>
          <a:xfrm>
            <a:off x="468360" y="4724280"/>
            <a:ext cx="18000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3"/>
          <p:cNvSpPr txBox="1"/>
          <p:nvPr/>
        </p:nvSpPr>
        <p:spPr>
          <a:xfrm>
            <a:off x="1619280" y="2421000"/>
            <a:ext cx="640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Закончите предложе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1"/>
          <p:cNvSpPr txBox="1"/>
          <p:nvPr/>
        </p:nvSpPr>
        <p:spPr>
          <a:xfrm>
            <a:off x="179280" y="404640"/>
            <a:ext cx="4438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1.It is not a tree. 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49" name="WordArt 2"/>
          <p:cNvSpPr txBox="1"/>
          <p:nvPr/>
        </p:nvSpPr>
        <p:spPr>
          <a:xfrm>
            <a:off x="3348000" y="1557360"/>
            <a:ext cx="44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"/>
              </a:rPr>
              <a:t>2.It is not a star. 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"/>
              <a:ea typeface="Arial"/>
            </a:endParaRPr>
          </a:p>
        </p:txBody>
      </p:sp>
      <p:sp>
        <p:nvSpPr>
          <p:cNvPr id="250" name="WordArt 3"/>
          <p:cNvSpPr txBox="1"/>
          <p:nvPr/>
        </p:nvSpPr>
        <p:spPr>
          <a:xfrm>
            <a:off x="179280" y="2637000"/>
            <a:ext cx="4362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3.It is not a ship.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2268360" y="4076640"/>
            <a:ext cx="44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4.It is not a cock.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468360" y="5734080"/>
            <a:ext cx="41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5.It is not a pig.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7740720" y="620640"/>
            <a:ext cx="1047600" cy="1656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1827000" cy="695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7740720" y="3500280"/>
            <a:ext cx="1168200" cy="1352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4"/>
          <a:stretch/>
        </p:blipFill>
        <p:spPr>
          <a:xfrm>
            <a:off x="5076720" y="5084640"/>
            <a:ext cx="1860480" cy="1616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5"/>
          <a:stretch/>
        </p:blipFill>
        <p:spPr>
          <a:xfrm>
            <a:off x="4788000" y="0"/>
            <a:ext cx="14112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3"/>
          <p:cNvSpPr txBox="1"/>
          <p:nvPr/>
        </p:nvSpPr>
        <p:spPr>
          <a:xfrm>
            <a:off x="600120" y="2908440"/>
            <a:ext cx="79437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оедините предложения с рисунк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3924360" y="404640"/>
            <a:ext cx="1081080" cy="1151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9564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211640" y="549360"/>
            <a:ext cx="57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426360" y="1700280"/>
            <a:ext cx="2138040" cy="223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5580000" y="4437000"/>
            <a:ext cx="2016360" cy="19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1979640" y="4653000"/>
            <a:ext cx="215892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671920" cy="1781280"/>
          </a:xfrm>
          <a:prstGeom prst="rect">
            <a:avLst/>
          </a:prstGeom>
          <a:ln w="0">
            <a:noFill/>
          </a:ln>
        </p:spPr>
      </p:pic>
      <p:sp>
        <p:nvSpPr>
          <p:cNvPr id="264" name="WordArt 4"/>
          <p:cNvSpPr txBox="1"/>
          <p:nvPr/>
        </p:nvSpPr>
        <p:spPr>
          <a:xfrm>
            <a:off x="900000" y="2421000"/>
            <a:ext cx="578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"/>
              </a:rPr>
              <a:t>She is sad.She is not happy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"/>
              <a:ea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1576440" cy="23763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6"/>
          <p:cNvSpPr txBox="1"/>
          <p:nvPr/>
        </p:nvSpPr>
        <p:spPr>
          <a:xfrm>
            <a:off x="179280" y="580536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Tom is littl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67" name="WordArt 7"/>
          <p:cNvSpPr txBox="1"/>
          <p:nvPr/>
        </p:nvSpPr>
        <p:spPr>
          <a:xfrm>
            <a:off x="6084720" y="6093000"/>
            <a:ext cx="246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It is red cu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268" name="Picture 8" descr=""/>
          <p:cNvPicPr/>
          <p:nvPr/>
        </p:nvPicPr>
        <p:blipFill>
          <a:blip r:embed="rId3"/>
          <a:stretch/>
        </p:blipFill>
        <p:spPr>
          <a:xfrm>
            <a:off x="2195640" y="3213000"/>
            <a:ext cx="1398600" cy="2232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4"/>
          <a:stretch/>
        </p:blipFill>
        <p:spPr>
          <a:xfrm>
            <a:off x="468360" y="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70" name="WordArt 10"/>
          <p:cNvSpPr txBox="1"/>
          <p:nvPr/>
        </p:nvSpPr>
        <p:spPr>
          <a:xfrm>
            <a:off x="4643280" y="404640"/>
            <a:ext cx="1924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"/>
              </a:rPr>
              <a:t>It is a bi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3"/>
          <p:cNvSpPr txBox="1"/>
          <p:nvPr/>
        </p:nvSpPr>
        <p:spPr>
          <a:xfrm>
            <a:off x="971640" y="2997360"/>
            <a:ext cx="720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оедините тексты с рисунка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90880" cy="2630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421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2495520" cy="3120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4"/>
          <a:stretch/>
        </p:blipFill>
        <p:spPr>
          <a:xfrm>
            <a:off x="6227640" y="3475080"/>
            <a:ext cx="2354400" cy="338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5"/>
          <a:stretch/>
        </p:blipFill>
        <p:spPr>
          <a:xfrm>
            <a:off x="3492360" y="2492280"/>
            <a:ext cx="2605320" cy="17352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684360" y="54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5796000" y="476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24000" y="4005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5724360" y="45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4067280" y="2133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3"/>
          <p:cNvSpPr txBox="1"/>
          <p:nvPr/>
        </p:nvSpPr>
        <p:spPr>
          <a:xfrm>
            <a:off x="1403280" y="2924280"/>
            <a:ext cx="655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Запишите диа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505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7917120" cy="636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767280" cy="64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403280" y="223920"/>
            <a:ext cx="5832720" cy="66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Страница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Проектн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«Мой альбом о Британ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3"/>
          <p:cNvSpPr txBox="1"/>
          <p:nvPr/>
        </p:nvSpPr>
        <p:spPr>
          <a:xfrm>
            <a:off x="2519280" y="36036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0240" cy="16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19040" y="1603080"/>
            <a:ext cx="822024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2300dc"/>
                </a:solidFill>
                <a:latin typeface="Arial"/>
              </a:rPr>
              <a:t>  </a:t>
            </a:r>
            <a:r>
              <a:rPr b="0" lang="ru-RU" sz="9600" spc="-1" strike="noStrike">
                <a:solidFill>
                  <a:srgbClr val="2300dc"/>
                </a:solidFill>
                <a:latin typeface="Arial"/>
              </a:rPr>
              <a:t>GOOD BY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924360" y="404640"/>
            <a:ext cx="1130400" cy="122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4427640" y="549360"/>
            <a:ext cx="21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139920" y="3645000"/>
            <a:ext cx="293544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6588000" y="184464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215892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73160" y="795240"/>
            <a:ext cx="87976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3924360" y="476280"/>
            <a:ext cx="1368360" cy="1297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4284720" y="476280"/>
            <a:ext cx="718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6732720" y="1989000"/>
            <a:ext cx="1830240" cy="216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3276720" y="4005360"/>
            <a:ext cx="2089080" cy="26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21603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3851280" y="476280"/>
            <a:ext cx="1297080" cy="1584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4211640" y="692280"/>
            <a:ext cx="647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2259000" cy="165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12076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2987640" y="4292640"/>
            <a:ext cx="280836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3780000" y="476280"/>
            <a:ext cx="1655640" cy="180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4211640" y="836640"/>
            <a:ext cx="71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3419640" y="4076640"/>
            <a:ext cx="2501640" cy="252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195912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6732720" y="1341360"/>
            <a:ext cx="1971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3924360" y="404640"/>
            <a:ext cx="1441440" cy="1656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4356000" y="692280"/>
            <a:ext cx="525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I: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52728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384360" cy="224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3059280" y="4317840"/>
            <a:ext cx="316836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900000" y="333360"/>
            <a:ext cx="1368360" cy="1727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87280" y="69228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447640" cy="20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39640" y="20178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6372360" y="333360"/>
            <a:ext cx="1368360" cy="1727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6588000" y="692280"/>
            <a:ext cx="95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6539040" y="2133720"/>
            <a:ext cx="180504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5796000" y="4581360"/>
            <a:ext cx="28814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1:24:27Z</dcterms:created>
  <dc:creator> a</dc:creator>
  <dc:description/>
  <dc:language>en-US</dc:language>
  <cp:lastModifiedBy>T</cp:lastModifiedBy>
  <dcterms:modified xsi:type="dcterms:W3CDTF">2013-09-16T17:03:52Z</dcterms:modified>
  <cp:revision>9</cp:revision>
  <dc:subject/>
  <dc:title>звуки</dc:title>
</cp:coreProperties>
</file>