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6.jpeg" ContentType="image/jpeg"/>
  <Override PartName="/ppt/media/image7.wmf" ContentType="image/x-wmf"/>
  <Override PartName="/ppt/media/image9.png" ContentType="image/png"/>
  <Override PartName="/ppt/media/image13.wmf" ContentType="image/x-wmf"/>
  <Override PartName="/ppt/media/image12.jpeg" ContentType="image/jpeg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1D7-C824-401E-A436-29353ECE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C55-FF71-44BC-B74A-F6F35E21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0C8-F6E7-470D-B98B-A9CEAECC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227-4F2A-4816-B55E-C1DDBB6E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8FF-18F8-427C-8F06-E1D38C70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DD5-A7B1-4D04-81D4-F8591562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A78-00C1-45C7-B8B6-DB54E6E4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AC2-4E0B-40BF-B988-64396B0D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DED-D9AD-4952-896E-E05D6557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BBC-6571-4E49-B946-7966BDF1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C03-C08F-4833-AA5B-0AD27BE8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EAA-51AE-4A09-A38A-534841E8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9866E-08D8-4F24-8456-AF6618F6BD5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160720"/>
            <a:ext cx="8012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00ff"/>
                </a:solidFill>
                <a:latin typeface="Arial"/>
              </a:rPr>
              <a:t>ГЛАСНЫЕ БУКВ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5219640"/>
            <a:ext cx="4297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учителя ГОУ СОШ №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отовой Юлии Александр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0720" y="179280"/>
            <a:ext cx="539640" cy="540000"/>
          </a:xfrm>
          <a:prstGeom prst="star5">
            <a:avLst/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19640" y="677880"/>
            <a:ext cx="720720" cy="762120"/>
          </a:xfrm>
          <a:prstGeom prst="star5">
            <a:avLst/>
          </a:pr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05560" y="996840"/>
            <a:ext cx="540000" cy="54000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5400720"/>
            <a:ext cx="720720" cy="720720"/>
          </a:xfrm>
          <a:prstGeom prst="star5">
            <a:avLst/>
          </a:prstGeom>
          <a:solidFill>
            <a:srgbClr val="579d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5840" y="4111560"/>
            <a:ext cx="540000" cy="539640"/>
          </a:xfrm>
          <a:prstGeom prst="star5">
            <a:avLst/>
          </a:prstGeom>
          <a:solidFill>
            <a:srgbClr val="ff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0720" y="3600360"/>
            <a:ext cx="720720" cy="720720"/>
          </a:xfrm>
          <a:prstGeom prst="star5">
            <a:avLst/>
          </a:prstGeom>
          <a:solidFill>
            <a:srgbClr val="00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1079640"/>
            <a:ext cx="7380360" cy="431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51280" y="404640"/>
            <a:ext cx="44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24560" y="42372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80200" y="193680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75480" y="4384800"/>
            <a:ext cx="29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72360" y="1341360"/>
            <a:ext cx="158436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03840" y="409716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67120" y="4960800"/>
            <a:ext cx="34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3800" y="3933720"/>
            <a:ext cx="26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у дверь стучат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то там?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43120" y="4210200"/>
            <a:ext cx="35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2997360"/>
            <a:ext cx="35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осень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utu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98760" y="5651640"/>
            <a:ext cx="401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60720" y="5877000"/>
            <a:ext cx="36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ому, чтоб грустным не бы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ят яблоко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an app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5300"/>
                            </p:stCondLst>
                            <p:childTnLst>
                              <p:par>
                                <p:cTn id="3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830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13800"/>
                            </p:stCondLst>
                            <p:childTnLst>
                              <p:par>
                                <p:cTn id="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0000" y="476280"/>
            <a:ext cx="29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елей, чем сне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141300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ерет нача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g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06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g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иживат квоч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280" y="6164280"/>
            <a:ext cx="3231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конец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he end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точ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308720" y="692280"/>
            <a:ext cx="131292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4844880"/>
            <a:ext cx="2801880" cy="201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132000" y="2565360"/>
            <a:ext cx="3657600" cy="2401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116000" y="1197000"/>
            <a:ext cx="122400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0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dur="indefinite" fill="hold">
                            <p:stCondLst>
                              <p:cond delay="280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fill="hold">
                            <p:stCondLst>
                              <p:cond delay="580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dur="indefinite" nodeType="after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14700"/>
                            </p:stCondLst>
                            <p:childTnLst>
                              <p:par>
                                <p:cTn id="8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76720" y="1557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 буквой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мы так похож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4000" y="256536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3213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и я-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3440" y="5013360"/>
            <a:ext cx="34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Мы не плачем, не хандрим,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Если есть пломбир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ce-cre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232000" cy="273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588000" y="4292640"/>
            <a:ext cx="1974960" cy="1714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308720" y="765000"/>
            <a:ext cx="1079640" cy="194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0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fill="hold">
                            <p:stCondLst>
                              <p:cond delay="760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980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04000" y="404640"/>
            <a:ext cx="1295280" cy="136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29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зари и до за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0360" y="3429000"/>
            <a:ext cx="32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ет веткой дуб-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oak-tree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5157720"/>
            <a:ext cx="37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х зовет под свод ветв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моча под нос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O.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371760" cy="4060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2108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0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dur="indefinite" fill="hold">
                            <p:stCondLst>
                              <p:cond delay="64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2800"/>
                            </p:stCondLst>
                            <p:childTnLst>
                              <p:par>
                                <p:cTn id="1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dur="indefinite" fill="hold">
                            <p:stCondLst>
                              <p:cond delay="158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26920" y="404640"/>
            <a:ext cx="132264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233440" cy="208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76720" y="83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стретишь букву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56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скоро быть дожд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3933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годня подобрел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53737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рила зонт -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umbrella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940360" y="2205000"/>
            <a:ext cx="1744560" cy="1836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0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dur="indefinite" fill="hold">
                            <p:stCondLst>
                              <p:cond delay="5600"/>
                            </p:stCondLst>
                            <p:childTnLst>
                              <p:par>
                                <p:cTn id="1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dur="indefinite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fill="hold">
                            <p:stCondLst>
                              <p:cond delay="159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dur="indefinite" fill="hold">
                            <p:stCondLst>
                              <p:cond delay="21900"/>
                            </p:stCondLst>
                            <p:childTnLst>
                              <p:par>
                                <p:cTn id="18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55840" y="2368440"/>
            <a:ext cx="34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61240" y="3789360"/>
            <a:ext cx="2282760" cy="2697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11280" y="476280"/>
            <a:ext cx="936360" cy="129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704880" y="452916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Arial"/>
              </a:rPr>
              <a:t>В дальний путь ребят зовет</a:t>
            </a:r>
            <a:br>
              <a:rPr sz="1800"/>
            </a:br>
            <a:r>
              <a:rPr b="0" lang="ru-RU" sz="1800" spc="-1" strike="noStrike">
                <a:solidFill>
                  <a:srgbClr val="4c1900"/>
                </a:solidFill>
                <a:latin typeface="Arial"/>
              </a:rPr>
              <a:t>Белый парусник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a yacht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96000" y="2567160"/>
            <a:ext cx="428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Arial"/>
              </a:rPr>
              <a:t>Эй, на весла налегай!</a:t>
            </a:r>
            <a:br>
              <a:rPr sz="1800"/>
            </a:br>
            <a:r>
              <a:rPr b="0" lang="ru-RU" sz="1800" spc="-1" strike="noStrike">
                <a:solidFill>
                  <a:srgbClr val="4c1900"/>
                </a:solidFill>
                <a:latin typeface="Arial"/>
              </a:rPr>
              <a:t>Мчится в море буква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dur="indefinite" fill="hold">
                      <p:stCondLst>
                        <p:cond delay="0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fill="hold">
                            <p:stCondLst>
                              <p:cond delay="15400"/>
                            </p:stCondLst>
                            <p:childTnLst>
                              <p:par>
                                <p:cTn id="2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79640" y="476280"/>
            <a:ext cx="5184720" cy="668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rial"/>
              </a:rPr>
              <a:t>Гласные бук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720" y="1916280"/>
            <a:ext cx="60012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27280" y="2637000"/>
            <a:ext cx="649440" cy="715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00360" y="4221000"/>
            <a:ext cx="4017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56000" y="4941720"/>
            <a:ext cx="63036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27640" y="4149720"/>
            <a:ext cx="576360" cy="71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27640" y="2637000"/>
            <a:ext cx="576360" cy="787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0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246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253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dur="indefinite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0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2133720"/>
            <a:ext cx="1079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autumn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app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141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3068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бло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4365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5445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й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48040" y="32464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ice-cre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5805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оже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443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oak-tr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27082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umbrell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869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58920" y="1623600"/>
            <a:ext cx="180036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21880" y="3068640"/>
            <a:ext cx="180972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343320" y="3645000"/>
            <a:ext cx="11620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4581360"/>
            <a:ext cx="1727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4869000"/>
            <a:ext cx="14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1989000"/>
            <a:ext cx="144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333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Найди перевод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dur="indefinite" fill="hold">
                      <p:stCondLst>
                        <p:cond delay="0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4:29:36Z</dcterms:created>
  <dc:creator> Федотова Ю.А.</dc:creator>
  <dc:description/>
  <dc:language>en-US</dc:language>
  <cp:lastModifiedBy> a</cp:lastModifiedBy>
  <dcterms:modified xsi:type="dcterms:W3CDTF">2010-04-07T19:13:47Z</dcterms:modified>
  <cp:revision>2</cp:revision>
  <dc:subject/>
  <dc:title>Слайд 1</dc:title>
</cp:coreProperties>
</file>