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7D2-97B4-4DC2-82EA-22FBB346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538-8AC3-4098-B513-54F374B8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38A-611D-4BC4-856F-9D47DAB3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732-FF34-4A7E-A20D-947AF2B4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8B3-D33A-49E8-83C5-996DE03C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B0A-041A-4BA2-BD79-3A262318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D18-479A-46CC-A2DC-A2733E3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096-4882-4922-8D52-D75B178A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652-ABD5-4401-B529-C8244AE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1E1-7920-48CF-994D-C94933E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9E7-4E42-46FD-B5A0-7555600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8E4-9C93-4A38-BF69-EB7F658C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A3C1-20CC-4F5D-ACBD-25021FB3BC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2303-452B-4266-B74D-AAF16B1DF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4er.ru/forum/82-------------lr/2616--3--15--21-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For and Against Essa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76360" y="5300640"/>
            <a:ext cx="640080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бачёва Т.И., учитель английского языка МОУ «Поп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1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Критерии оцен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451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5b40"/>
                </a:solidFill>
                <a:latin typeface="Arial Narrow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а) соответствие поставленной коммуникативной задач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б) полнота раскрытия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в) выбор правильного стиля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5b40"/>
                </a:solidFill>
                <a:latin typeface="Arial Narrow"/>
              </a:rPr>
              <a:t>2.</a:t>
            </a: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235b40"/>
                </a:solidFill>
                <a:latin typeface="Arial Narrow"/>
              </a:rPr>
              <a:t>Организ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а) логичность высказы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б) правильность использования средств логическо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5b40"/>
                </a:solidFill>
                <a:latin typeface="Arial Narrow"/>
              </a:rPr>
              <a:t>3. Лексическое оформление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а) адекватность использования лексики в соответствии с заданной коммуникативной ситу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б) соблюдение лексической сочетаемости, использование узуальных словосочет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в) разнообразие лексически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5b40"/>
                </a:solidFill>
                <a:latin typeface="Arial Narrow"/>
              </a:rPr>
              <a:t>4. Грамматическое оформление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а) адекватность использования грамматических структур в соответствии с заданной коммуникативной ситу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б) разнообразие грамматических сред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в) сложность грамматических констру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5b40"/>
                </a:solidFill>
                <a:latin typeface="Arial Narrow"/>
              </a:rPr>
              <a:t>5. Орфография и пункту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5b40"/>
                </a:solidFill>
                <a:latin typeface="Arial Narrow"/>
              </a:rPr>
              <a:t>а) правильность орфографического и пунктуационного оформления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Итого максимально –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4 бал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D30F3-2CBD-41DE-9892-85B59B6DED84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427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Используемые источн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нглийский язык: Экспресс-репетитор для подготовки к ЕГЭ: «Письмо»/ Е.С.Музланова . – М.:АСТ:Астрель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a4er.ru/forum/82-------------lr/2616--3--15--21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Киреева Т.В. Стратегия и тактика подготовки учащихся к успешной сдаче экзамена по английскому языку, «Письмо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ГЭ. Английский язык. Письмо/ Л.И. Романова.-М.; Айрис-пресс, 2009.-128. – (Домашний репетитор. Подготовка к ЕГЭ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36061-A9AB-482C-A046-4F2063846174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Что такое э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C456E-A4DD-45B3-A190-FCFB566924F8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лассификация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3960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708280"/>
            <a:ext cx="40388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125360"/>
            <a:ext cx="3384360" cy="11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” and “Against”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1125360"/>
            <a:ext cx="3384720" cy="11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nion Essa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9280" y="2637000"/>
            <a:ext cx="4175280" cy="2376360"/>
            <a:chOff x="179280" y="2637000"/>
            <a:chExt cx="4175280" cy="2376360"/>
          </a:xfrm>
        </p:grpSpPr>
        <p:sp>
          <p:nvSpPr>
            <p:cNvPr id="53" name=""/>
            <p:cNvSpPr/>
            <p:nvPr/>
          </p:nvSpPr>
          <p:spPr>
            <a:xfrm>
              <a:off x="179280" y="2637000"/>
              <a:ext cx="4175280" cy="23763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ccff99"/>
                </a:gs>
                <a:gs pos="100000">
                  <a:srgbClr val="235b4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00000" y="2924280"/>
              <a:ext cx="2879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едставлена не только информация по данному вопросу, но и аргументация «за» и «против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500720" y="2637000"/>
            <a:ext cx="4174920" cy="2765160"/>
            <a:chOff x="4500720" y="2637000"/>
            <a:chExt cx="4174920" cy="2765160"/>
          </a:xfrm>
        </p:grpSpPr>
        <p:sp>
          <p:nvSpPr>
            <p:cNvPr id="56" name=""/>
            <p:cNvSpPr/>
            <p:nvPr/>
          </p:nvSpPr>
          <p:spPr>
            <a:xfrm>
              <a:off x="4500720" y="2637000"/>
              <a:ext cx="4174920" cy="23763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ccff99"/>
                </a:gs>
                <a:gs pos="100000">
                  <a:srgbClr val="235b4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48000" y="2710080"/>
              <a:ext cx="295272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Представлено своё мнение по данной проблеме, а также противоположная точка зрения с объяснением, почему вы с ней не согласн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00B09-A9A6-4661-906F-81A1816C9001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ые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йте формальный стиль письма, а имен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используйте сокращённые формы, такие ка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’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используйте скобки и восклицательные знаки -это свойственно неформальному стилю пись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начинайте предложения со сло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, but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употребляйте вводные слова, характерные для неформального стил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l, you know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т.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бегайте слишком простых предложений; объединяйте их в сложные, используя логические средства связ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ите текст сочинения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ысловые абза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соответствии с предложенным в задании пла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 В первом абзаце сформулируйте пробл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Выделите положительные и отрицательные аспекты пробл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йте слова связ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заключительном параграфе сделайте обобщающий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бедитесь, чт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сочинения 200-250 с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ё раз перечитайте свой сочинение: проверьте грамматику, орфографию и пунктуа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A07EA-BDC1-438E-BE07-9125CD6C7A4F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Структура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Эссе «За и Проти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47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5b40"/>
                </a:solidFill>
                <a:latin typeface="Arial Narrow"/>
              </a:rPr>
              <a:t>1</a:t>
            </a:r>
            <a:r>
              <a:rPr b="0" lang="ru-RU" sz="4000" spc="-1" strike="noStrike">
                <a:solidFill>
                  <a:srgbClr val="235b40"/>
                </a:solidFill>
                <a:latin typeface="Arial Narrow"/>
              </a:rPr>
              <a:t>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ступление (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) -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§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5b40"/>
                </a:solidFill>
                <a:latin typeface="Arial Narrow"/>
              </a:rPr>
              <a:t>2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ая часть (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in Body) -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§2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5b40"/>
                </a:solidFill>
                <a:latin typeface="Arial Narrow"/>
              </a:rPr>
              <a:t>3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 (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) -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§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B8C77-E805-4FC8-8FA4-E0201BE3064C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052640"/>
            <a:ext cx="77040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ступление (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§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вить проблему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выражая своего м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general ru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often suggest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often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ot of people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.... We all kno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vour of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both a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s and disadvantages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thing has twosides: positive andnegative....and....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cep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905C0-E8FE-4C69-AB64-36277F35024A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 в поддержку одного из существующих м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суждения с аргументами и примером +1 суждение с перечислением примеров (т.е. всего 3 высказывания-суждения; примеры можно привести из жизненного опы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's look at the advantages of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's begin with th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issu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one hand, it is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/most important/greatest advantage of. ..is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mor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of all.../ Secondl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 против другого существующего мнения (а не сво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нии) -2 суждения с аргументами и прим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other hand, the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ome disadvantages/negative poin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ides... /Moreov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... /such as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3BF99-6F14-4F27-8662-4D714687AF94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837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е мнение-какую сторону Вы принимаете и поч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clusion, 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like to expres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opinion on th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. I thin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.... because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 all, I 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ore advantages than disadvantag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балансированное мнение- есть что-то хорошее, но есть и что-то плох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,...../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ll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woul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to say that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ings considered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ome advantages, I believe i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.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6999F-3D1D-419E-93ED-5FF31E5BA437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84120" y="1196640"/>
            <a:ext cx="7320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Bookman Old Style"/>
              </a:rPr>
              <a:t>Объем сочинения</a:t>
            </a:r>
            <a:r>
              <a:rPr b="1" lang="ru-RU" sz="2400" spc="-1" strike="noStrike">
                <a:solidFill>
                  <a:srgbClr val="006666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Требуемый объем –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00-250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ремя выполнения –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0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NB!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Если в вашем эссе менее 180 слов, то ваше эссе проверке не подлежит и оценивается в 0 баллов. При превышении объема более чем на 10%, т.е. если в вашем эссе более 275 слов, то проверке подлежит только та часть работы, которая соответствует требуемому объ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C745C-B7F7-4D0C-9A96-EC634CB4964E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18:37Z</dcterms:created>
  <dc:creator>Надежда</dc:creator>
  <dc:description/>
  <dc:language>en-US</dc:language>
  <cp:lastModifiedBy>User</cp:lastModifiedBy>
  <dcterms:modified xsi:type="dcterms:W3CDTF">2011-09-20T08:45:21Z</dcterms:modified>
  <cp:revision>7</cp:revision>
  <dc:subject/>
  <dc:title>ЭССЕ по ОБЩЕСТВОЗНАНИЮ</dc:title>
</cp:coreProperties>
</file>