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5.gif" ContentType="image/gif"/>
  <Override PartName="/ppt/media/image21.png" ContentType="image/png"/>
  <Override PartName="/ppt/media/image24.png" ContentType="image/png"/>
  <Override PartName="/ppt/media/image19.gif" ContentType="image/gif"/>
  <Override PartName="/ppt/media/image18.png" ContentType="image/png"/>
  <Override PartName="/ppt/media/image22.png" ContentType="image/png"/>
  <Override PartName="/ppt/media/image17.gif" ContentType="image/gif"/>
  <Override PartName="/ppt/media/image23.jpeg" ContentType="image/jpeg"/>
  <Override PartName="/ppt/media/image2.wmf" ContentType="image/x-wmf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791-448D-4B7D-89AB-4FBC220A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AEC-FF51-49CA-928D-1350BBD9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F8E-8EF4-429A-BA68-082BEAA1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BB3-A7B7-496B-936D-830A0FD7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C69-6CC8-4038-8C08-1DF20083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72F-268D-4B56-9449-4AFEB22F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F91-F074-448C-BCB9-14BD715C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CEC-2018-4122-B48D-90050D1B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43F-8F4F-4E45-ABA5-455512E5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931-F65D-45BC-A8E4-B6A50EB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69D-7B8C-4769-B5D5-02CE37F9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0F3-D3CC-4EC9-A961-2548BFFB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6357-8F41-4F2A-ADB4-934CE1132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5"/>
          <p:cNvPicPr/>
          <p:nvPr/>
        </p:nvPicPr>
        <p:blipFill>
          <a:blip r:embed="rId2"/>
          <a:srcRect l="0" t="0" r="0" b="43695"/>
          <a:stretch/>
        </p:blipFill>
        <p:spPr>
          <a:xfrm>
            <a:off x="533520" y="609480"/>
            <a:ext cx="2033640" cy="1587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752480" y="39625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ekton Pro Ext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ekton Pro Ext"/>
              </a:rPr>
              <a:t>A personal let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letter-writing"/>
          <p:cNvPicPr/>
          <p:nvPr/>
        </p:nvPicPr>
        <p:blipFill>
          <a:blip r:embed="rId3"/>
          <a:stretch/>
        </p:blipFill>
        <p:spPr>
          <a:xfrm>
            <a:off x="6248520" y="685800"/>
            <a:ext cx="243828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0"/>
          <p:cNvSpPr/>
          <p:nvPr/>
        </p:nvSpPr>
        <p:spPr>
          <a:xfrm>
            <a:off x="-5760" y="5562720"/>
            <a:ext cx="50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nyway, I`m writing to tell you about 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ummer in Cornwel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8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7086600" cy="2673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847080" y="274680"/>
            <a:ext cx="669888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ekton Pro Ext"/>
              </a:rPr>
              <a:t>FILL  IN  THE  BLA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80880" y="6172200"/>
            <a:ext cx="58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anks for your letter.  I must apologize f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writing  ear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190400" y="59436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Dear  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805200" y="5486400"/>
            <a:ext cx="50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Well, I must go and get on with my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5639400" y="59436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drid,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7925400" y="5867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52280" y="52578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21/09/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3"/>
          <a:stretch/>
        </p:blipFill>
        <p:spPr>
          <a:xfrm>
            <a:off x="609480" y="380880"/>
            <a:ext cx="7010640" cy="47293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9"/>
          <p:cNvSpPr/>
          <p:nvPr/>
        </p:nvSpPr>
        <p:spPr>
          <a:xfrm>
            <a:off x="7529040" y="42782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clairev080700203"/>
          <p:cNvPicPr/>
          <p:nvPr/>
        </p:nvPicPr>
        <p:blipFill>
          <a:blip r:embed="rId4"/>
          <a:stretch/>
        </p:blipFill>
        <p:spPr>
          <a:xfrm>
            <a:off x="7543800" y="304920"/>
            <a:ext cx="12477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882 -0.01781 L 0.07847 -0.55065 E">
                                      <p:cBhvr>
                                        <p:cTn id="25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882 -0.01781 L 0.07847 -0.55065 E">
                                      <p:cBhvr>
                                        <p:cTn id="253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88 0.0155 L -0.33455 -0.65055 E">
                                      <p:cBhvr>
                                        <p:cTn id="26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8333 -0.04001 L 0.125 -0.35083 E">
                                      <p:cBhvr>
                                        <p:cTn id="27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833 -0.0444 E">
                                      <p:cBhvr>
                                        <p:cTn id="28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8 -0.04001 L -0.05938 -0.71716 E">
                                      <p:cBhvr>
                                        <p:cTn id="29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85 -0.02891 L 0.56215 -0.52845 E">
                                      <p:cBhvr>
                                        <p:cTn id="30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13 0.0599 L -0.68646 0.0599 E">
                                      <p:cBhvr>
                                        <p:cTn id="311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3608 L -0.63629 0.2248 E">
                                      <p:cBhvr>
                                        <p:cTn id="32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547920" y="108000"/>
            <a:ext cx="79243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ekton Pro Ext"/>
              </a:rPr>
              <a:t>Re-arrange  Parts of the L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-5760" y="762120"/>
            <a:ext cx="95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hanks for your letter. I`m glad you`re going to visit Rus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he weather  in summer is usually hot, so I don` t think you `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need lots of warm clothes.  However, you`d better take a jacke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-1800" y="228600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an`t wait to see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-7560" y="2666880"/>
            <a:ext cx="79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your letter you asked me about the life in a big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-6840" y="3962520"/>
            <a:ext cx="894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As for me, I enjoy living in Moscow as there are lots of p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and cosy cafes, museums and galleries. In the evening I 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for a walk with my friends, and at weekends we go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theatre or cin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6480" y="327672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`d better go now as I have to do my homework-bor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239040" y="5838840"/>
            <a:ext cx="217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Best wish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231480" y="190512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ar Ja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7"/>
          <p:cNvSpPr/>
          <p:nvPr/>
        </p:nvSpPr>
        <p:spPr>
          <a:xfrm>
            <a:off x="469440" y="228600"/>
            <a:ext cx="526032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ekton Pro Ext"/>
              </a:rPr>
              <a:t>LINK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04920" y="685800"/>
            <a:ext cx="6864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28 Beach A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ristol  BR 9 8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September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ear So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anks for your letter. I`m glad Lora still remembers me. I`m fine ______ I`ve been really busy. You know what it`s like when you`ve got exams, don` t you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___________ , I`ll try to answer your questions about the trip. Get Mum and Dad ________ you like. They love sweet things, ________ some Belgian chocolate would be gre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t is difficult to say what sort of clothes to bring ______ _ the weather is so unpredictable these days. I`d bring summer clothes ______ with a couple of jump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`ve also got some questions. Where`d you like to go in Lond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 guess you haven`t  yet been to Barbican Center, have you? Shall I buy tickets for a play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______, I really must go now  ______ I`ve got my aerobics class. Send me your flight detailes when you know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ake ca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uz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544880" y="34290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7530480" y="1865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what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7529400" y="24494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7544160" y="299736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th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7773480" y="487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7468200" y="44956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7528680" y="14590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7545960" y="38862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2" descr="broker060500026"/>
          <p:cNvPicPr/>
          <p:nvPr/>
        </p:nvPicPr>
        <p:blipFill>
          <a:blip r:embed="rId2"/>
          <a:stretch/>
        </p:blipFill>
        <p:spPr>
          <a:xfrm rot="1231800">
            <a:off x="7315200" y="457200"/>
            <a:ext cx="1828800" cy="123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4" descr="broker060500026"/>
          <p:cNvPicPr/>
          <p:nvPr/>
        </p:nvPicPr>
        <p:blipFill>
          <a:blip r:embed="rId3"/>
          <a:stretch/>
        </p:blipFill>
        <p:spPr>
          <a:xfrm rot="1231800">
            <a:off x="6858000" y="5181480"/>
            <a:ext cx="1828800" cy="1230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" descr="broker060500026"/>
          <p:cNvPicPr/>
          <p:nvPr/>
        </p:nvPicPr>
        <p:blipFill>
          <a:blip r:embed="rId4"/>
          <a:stretch/>
        </p:blipFill>
        <p:spPr>
          <a:xfrm rot="1231800">
            <a:off x="6781680" y="0"/>
            <a:ext cx="1828800" cy="12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43 -0.0081 L -0.7441 -0.14144 E">
                                      <p:cBhvr>
                                        <p:cTn id="377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96 -0.02685 L -0.73229 -0.19352 E">
                                      <p:cBhvr>
                                        <p:cTn id="381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0.00995 L -0.52083 0.1456 E">
                                      <p:cBhvr>
                                        <p:cTn id="385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00833 L -0.65798 0.09167 E">
                                      <p:cBhvr>
                                        <p:cTn id="389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14 -0.00671 L -0.20747 -0.15116 E">
                                      <p:cBhvr>
                                        <p:cTn id="393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1 0.00439 L -0.67344 0.08217 E">
                                      <p:cBhvr>
                                        <p:cTn id="397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8 -0.01945 L -0.77014 0.56944 E">
                                      <p:cBhvr>
                                        <p:cTn id="401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19 0.01551 L -0.42552 0.07106 E">
                                      <p:cBhvr>
                                        <p:cTn id="40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rrect the mist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adri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nna Lop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ar frien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ook forward to seeing you soon!  I would like to write about my ne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irst, I  went to Paris with my parents last week. It was grea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econd, I am getting ready for my future exams and it takes a lot of time.  Third, I’ll go to a party next week. It will be coo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orry, I must go and get on with my 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t was great to hear from you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ours sincerely, 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228600" y="264960"/>
            <a:ext cx="8305920" cy="68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                                             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adri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                                             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                                             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15/03/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ar Ig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ank you for your letter. It was great to hear from you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 would like to write about my news. First, I  went to Paris with my parents last week. It was grea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econd, I am getting ready for my future exams and it takes a lot of time.  Third, I’ll go to a party next week. It will be coo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orry, I must go and get on with my work.  Look forward to seeing you so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est wish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ood Luck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19"/>
          <p:cNvPicPr/>
          <p:nvPr/>
        </p:nvPicPr>
        <p:blipFill>
          <a:blip r:embed="rId2"/>
          <a:stretch/>
        </p:blipFill>
        <p:spPr>
          <a:xfrm>
            <a:off x="3276720" y="2057400"/>
            <a:ext cx="214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4740219"/>
          <p:cNvPicPr/>
          <p:nvPr/>
        </p:nvPicPr>
        <p:blipFill>
          <a:blip r:embed="rId2"/>
          <a:stretch/>
        </p:blipFill>
        <p:spPr>
          <a:xfrm>
            <a:off x="6629400" y="304920"/>
            <a:ext cx="229536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04920" y="0"/>
            <a:ext cx="7788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ommended time: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30 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0-100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You ne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-  answer your friend`s questions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- have paragraphs in your let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use correct grammar and various vocabula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be po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 lett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2"/>
          <a:stretch/>
        </p:blipFill>
        <p:spPr>
          <a:xfrm>
            <a:off x="184320" y="1219320"/>
            <a:ext cx="8959680" cy="166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89154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685800" y="0"/>
            <a:ext cx="7467480" cy="68216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1"/>
          <p:cNvGrpSpPr/>
          <p:nvPr/>
        </p:nvGrpSpPr>
        <p:grpSpPr>
          <a:xfrm>
            <a:off x="1219320" y="762120"/>
            <a:ext cx="6045840" cy="5641200"/>
            <a:chOff x="1219320" y="762120"/>
            <a:chExt cx="6045840" cy="5641200"/>
          </a:xfrm>
        </p:grpSpPr>
        <p:sp>
          <p:nvSpPr>
            <p:cNvPr id="51" name="Text Box 10"/>
            <p:cNvSpPr/>
            <p:nvPr/>
          </p:nvSpPr>
          <p:spPr>
            <a:xfrm>
              <a:off x="5866920" y="762120"/>
              <a:ext cx="139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6018120" y="129528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1447560" y="198108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Gree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3"/>
            <p:cNvSpPr/>
            <p:nvPr/>
          </p:nvSpPr>
          <p:spPr>
            <a:xfrm>
              <a:off x="1369800" y="2666880"/>
              <a:ext cx="363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Paragraph 1</a:t>
              </a: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1219320" y="3429000"/>
              <a:ext cx="4983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Paragraph 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The main 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(The information you are writin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6"/>
            <p:cNvSpPr/>
            <p:nvPr/>
          </p:nvSpPr>
          <p:spPr>
            <a:xfrm>
              <a:off x="1523520" y="4876920"/>
              <a:ext cx="351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Paragraph 3 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7"/>
            <p:cNvSpPr/>
            <p:nvPr/>
          </p:nvSpPr>
          <p:spPr>
            <a:xfrm>
              <a:off x="1447920" y="541008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Clo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8"/>
            <p:cNvSpPr/>
            <p:nvPr/>
          </p:nvSpPr>
          <p:spPr>
            <a:xfrm>
              <a:off x="1371240" y="5943600"/>
              <a:ext cx="15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Signa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22" descr=""/>
          <p:cNvPicPr/>
          <p:nvPr/>
        </p:nvPicPr>
        <p:blipFill>
          <a:blip r:embed="rId3"/>
          <a:stretch/>
        </p:blipFill>
        <p:spPr>
          <a:xfrm>
            <a:off x="7238880" y="4343400"/>
            <a:ext cx="1673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49200" y="87480"/>
            <a:ext cx="81072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ekton Pro Ext"/>
              </a:rPr>
              <a:t>HOW  TO  WRITE  AN  ADD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1251925672_verkh"/>
          <p:cNvPicPr/>
          <p:nvPr/>
        </p:nvPicPr>
        <p:blipFill>
          <a:blip r:embed="rId2"/>
          <a:stretch/>
        </p:blipFill>
        <p:spPr>
          <a:xfrm>
            <a:off x="1295280" y="990720"/>
            <a:ext cx="6400800" cy="561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lairev080700199"/>
          <p:cNvPicPr/>
          <p:nvPr/>
        </p:nvPicPr>
        <p:blipFill>
          <a:blip r:embed="rId3"/>
          <a:stretch/>
        </p:blipFill>
        <p:spPr>
          <a:xfrm>
            <a:off x="228600" y="914400"/>
            <a:ext cx="167148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2286000" y="1066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elgoro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255000" y="175248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elgor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732840" y="2666880"/>
            <a:ext cx="275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lat 1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Block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entral 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. Popov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orocha d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elgorod reg. 3092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353760" y="1066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3350389"/>
          <p:cNvPicPr/>
          <p:nvPr/>
        </p:nvPicPr>
        <p:blipFill>
          <a:blip r:embed="rId4"/>
          <a:stretch/>
        </p:blipFill>
        <p:spPr>
          <a:xfrm>
            <a:off x="7543800" y="4419720"/>
            <a:ext cx="1359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79760" y="46080"/>
            <a:ext cx="778716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ekton Pro Ext"/>
              </a:rPr>
              <a:t>HOW  TO  WRITE   DAT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clairev080700203"/>
          <p:cNvPicPr/>
          <p:nvPr/>
        </p:nvPicPr>
        <p:blipFill>
          <a:blip r:embed="rId2"/>
          <a:stretch/>
        </p:blipFill>
        <p:spPr>
          <a:xfrm>
            <a:off x="3657600" y="1371600"/>
            <a:ext cx="167652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"/>
          <p:cNvPicPr/>
          <p:nvPr/>
        </p:nvPicPr>
        <p:blipFill>
          <a:blip r:embed="rId3"/>
          <a:stretch/>
        </p:blipFill>
        <p:spPr>
          <a:xfrm>
            <a:off x="5334120" y="990720"/>
            <a:ext cx="380988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1386-0808-2711-3746"/>
          <p:cNvPicPr/>
          <p:nvPr/>
        </p:nvPicPr>
        <p:blipFill>
          <a:blip r:embed="rId4"/>
          <a:stretch/>
        </p:blipFill>
        <p:spPr>
          <a:xfrm>
            <a:off x="228600" y="1600200"/>
            <a:ext cx="3657600" cy="449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americanflag"/>
          <p:cNvPicPr/>
          <p:nvPr/>
        </p:nvPicPr>
        <p:blipFill>
          <a:blip r:embed="rId5"/>
          <a:stretch/>
        </p:blipFill>
        <p:spPr>
          <a:xfrm rot="770400">
            <a:off x="7238520" y="2514240"/>
            <a:ext cx="120024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gb-ni"/>
          <p:cNvPicPr/>
          <p:nvPr/>
        </p:nvPicPr>
        <p:blipFill>
          <a:blip r:embed="rId6"/>
          <a:stretch/>
        </p:blipFill>
        <p:spPr>
          <a:xfrm rot="21055800">
            <a:off x="745920" y="2441520"/>
            <a:ext cx="1158840" cy="533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9"/>
          <p:cNvSpPr/>
          <p:nvPr/>
        </p:nvSpPr>
        <p:spPr>
          <a:xfrm rot="20626800">
            <a:off x="977760" y="308736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/o3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 rot="1090800">
            <a:off x="6251040" y="30474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03/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 rot="20812200">
            <a:off x="1450080" y="37364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/o3/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 rot="859200">
            <a:off x="6174360" y="36576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03/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/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 rot="20856000">
            <a:off x="853200" y="4409640"/>
            <a:ext cx="19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7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March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5"/>
          <p:cNvSpPr/>
          <p:nvPr/>
        </p:nvSpPr>
        <p:spPr>
          <a:xfrm rot="20869200">
            <a:off x="1071000" y="501120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7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 rot="915000">
            <a:off x="5493600" y="487692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rch 17 th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 rot="906600">
            <a:off x="5714640" y="434304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rch 17 th, 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62480" y="145404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ar frien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582000" y="213372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ar Jessic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277080" y="335268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morn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163640" y="144792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l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i?id=294846441-01-24"/>
          <p:cNvPicPr/>
          <p:nvPr/>
        </p:nvPicPr>
        <p:blipFill>
          <a:blip r:embed="rId2"/>
          <a:stretch/>
        </p:blipFill>
        <p:spPr>
          <a:xfrm>
            <a:off x="6781680" y="4114800"/>
            <a:ext cx="1768680" cy="2362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ag00095_"/>
          <p:cNvPicPr/>
          <p:nvPr/>
        </p:nvPicPr>
        <p:blipFill>
          <a:blip r:embed="rId3"/>
          <a:stretch/>
        </p:blipFill>
        <p:spPr>
          <a:xfrm>
            <a:off x="609480" y="411480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9"/>
          <p:cNvSpPr/>
          <p:nvPr/>
        </p:nvSpPr>
        <p:spPr>
          <a:xfrm>
            <a:off x="920880" y="228600"/>
            <a:ext cx="760572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ekton Pro Ext"/>
              </a:rPr>
              <a:t>SORT  INTO  CATIGO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5"/>
          <p:cNvSpPr/>
          <p:nvPr/>
        </p:nvSpPr>
        <p:spPr>
          <a:xfrm>
            <a:off x="6384960" y="2932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0"/>
          <p:cNvSpPr/>
          <p:nvPr/>
        </p:nvSpPr>
        <p:spPr>
          <a:xfrm>
            <a:off x="-4680" y="523224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t was so great to hear from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1"/>
          <p:cNvSpPr/>
          <p:nvPr/>
        </p:nvSpPr>
        <p:spPr>
          <a:xfrm>
            <a:off x="3408120" y="5192640"/>
            <a:ext cx="43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 really should have written ear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2"/>
          <p:cNvSpPr/>
          <p:nvPr/>
        </p:nvSpPr>
        <p:spPr>
          <a:xfrm>
            <a:off x="-2880" y="553716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We must try and meet s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3"/>
          <p:cNvSpPr/>
          <p:nvPr/>
        </p:nvSpPr>
        <p:spPr>
          <a:xfrm>
            <a:off x="-3600" y="5994360"/>
            <a:ext cx="44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 must go and get on with my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4"/>
          <p:cNvSpPr/>
          <p:nvPr/>
        </p:nvSpPr>
        <p:spPr>
          <a:xfrm>
            <a:off x="3489840" y="5421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he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5"/>
          <p:cNvSpPr/>
          <p:nvPr/>
        </p:nvSpPr>
        <p:spPr>
          <a:xfrm>
            <a:off x="3732840" y="576576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Get in touch s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6"/>
          <p:cNvSpPr/>
          <p:nvPr/>
        </p:nvSpPr>
        <p:spPr>
          <a:xfrm>
            <a:off x="0" y="63244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 can` t wait to hear from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7"/>
          <p:cNvSpPr/>
          <p:nvPr/>
        </p:nvSpPr>
        <p:spPr>
          <a:xfrm>
            <a:off x="3793320" y="60310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ll the be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8"/>
          <p:cNvSpPr/>
          <p:nvPr/>
        </p:nvSpPr>
        <p:spPr>
          <a:xfrm>
            <a:off x="7222320" y="5116680"/>
            <a:ext cx="19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Write as so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s 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9"/>
          <p:cNvSpPr/>
          <p:nvPr/>
        </p:nvSpPr>
        <p:spPr>
          <a:xfrm>
            <a:off x="6230520" y="557388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With best regard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0"/>
          <p:cNvSpPr/>
          <p:nvPr/>
        </p:nvSpPr>
        <p:spPr>
          <a:xfrm>
            <a:off x="3044520" y="4800600"/>
            <a:ext cx="40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orry for not writing for s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371600"/>
          <a:ext cx="9144000" cy="3352680"/>
        </p:xfrm>
        <a:graphic>
          <a:graphicData uri="http://schemas.openxmlformats.org/drawingml/2006/table">
            <a:tbl>
              <a:tblPr/>
              <a:tblGrid>
                <a:gridCol w="3048120"/>
                <a:gridCol w="3200400"/>
                <a:gridCol w="28954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t was so great to hear from yo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18"/>
          <p:cNvSpPr/>
          <p:nvPr/>
        </p:nvSpPr>
        <p:spPr>
          <a:xfrm>
            <a:off x="309240" y="152388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9"/>
          <p:cNvSpPr/>
          <p:nvPr/>
        </p:nvSpPr>
        <p:spPr>
          <a:xfrm>
            <a:off x="6556680" y="152388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4"/>
          <p:cNvSpPr/>
          <p:nvPr/>
        </p:nvSpPr>
        <p:spPr>
          <a:xfrm>
            <a:off x="3341160" y="1411200"/>
            <a:ext cx="221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6"/>
          <p:cNvSpPr/>
          <p:nvPr/>
        </p:nvSpPr>
        <p:spPr>
          <a:xfrm>
            <a:off x="60800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7"/>
          <p:cNvSpPr/>
          <p:nvPr/>
        </p:nvSpPr>
        <p:spPr>
          <a:xfrm>
            <a:off x="3105720" y="2068560"/>
            <a:ext cx="282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We must try and m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8"/>
          <p:cNvSpPr/>
          <p:nvPr/>
        </p:nvSpPr>
        <p:spPr>
          <a:xfrm>
            <a:off x="-92880" y="2627280"/>
            <a:ext cx="2603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 really should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written  ear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9"/>
          <p:cNvSpPr/>
          <p:nvPr/>
        </p:nvSpPr>
        <p:spPr>
          <a:xfrm>
            <a:off x="3107880" y="2602080"/>
            <a:ext cx="273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 must go and get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with my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0"/>
          <p:cNvSpPr/>
          <p:nvPr/>
        </p:nvSpPr>
        <p:spPr>
          <a:xfrm>
            <a:off x="6233040" y="22208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he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1"/>
          <p:cNvSpPr/>
          <p:nvPr/>
        </p:nvSpPr>
        <p:spPr>
          <a:xfrm>
            <a:off x="3183480" y="328788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Get in touch s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2"/>
          <p:cNvSpPr/>
          <p:nvPr/>
        </p:nvSpPr>
        <p:spPr>
          <a:xfrm>
            <a:off x="6247800" y="259092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ll the be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3"/>
          <p:cNvSpPr/>
          <p:nvPr/>
        </p:nvSpPr>
        <p:spPr>
          <a:xfrm>
            <a:off x="2969280" y="3581280"/>
            <a:ext cx="34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Write as  soon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4"/>
          <p:cNvSpPr/>
          <p:nvPr/>
        </p:nvSpPr>
        <p:spPr>
          <a:xfrm>
            <a:off x="3180240" y="3897360"/>
            <a:ext cx="312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 can` t wait to hear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5"/>
          <p:cNvSpPr/>
          <p:nvPr/>
        </p:nvSpPr>
        <p:spPr>
          <a:xfrm>
            <a:off x="-3600" y="3301920"/>
            <a:ext cx="3169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orry for not writing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6"/>
          <p:cNvSpPr/>
          <p:nvPr/>
        </p:nvSpPr>
        <p:spPr>
          <a:xfrm>
            <a:off x="6306840" y="298296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With best regard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87" descr="11949844071868980516addressed_envelope_with_stamp_01_svg_med"/>
          <p:cNvPicPr/>
          <p:nvPr/>
        </p:nvPicPr>
        <p:blipFill>
          <a:blip r:embed="rId2"/>
          <a:stretch/>
        </p:blipFill>
        <p:spPr>
          <a:xfrm rot="1829400">
            <a:off x="7162560" y="3962160"/>
            <a:ext cx="1752480" cy="10112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9"/>
          <p:cNvSpPr/>
          <p:nvPr/>
        </p:nvSpPr>
        <p:spPr>
          <a:xfrm>
            <a:off x="5898240" y="6172200"/>
            <a:ext cx="32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ank you for your letter</a:t>
            </a: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0"/>
          <p:cNvSpPr/>
          <p:nvPr/>
        </p:nvSpPr>
        <p:spPr>
          <a:xfrm>
            <a:off x="360" y="4267080"/>
            <a:ext cx="29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ank you for your letter</a:t>
            </a: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Signa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91800" y="144792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5486760" y="2286000"/>
            <a:ext cx="28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vanova Ol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39200" y="1523880"/>
            <a:ext cx="24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449720" y="24382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n41"/>
          <p:cNvPicPr/>
          <p:nvPr/>
        </p:nvPicPr>
        <p:blipFill>
          <a:blip r:embed="rId2"/>
          <a:stretch/>
        </p:blipFill>
        <p:spPr>
          <a:xfrm>
            <a:off x="3733920" y="3657600"/>
            <a:ext cx="114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мара Ивановна</cp:lastModifiedBy>
  <dcterms:modified xsi:type="dcterms:W3CDTF">2011-10-10T15:13:06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