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7.png" ContentType="image/png"/>
  <Override PartName="/ppt/media/image22.jpeg" ContentType="image/jpeg"/>
  <Override PartName="/ppt/media/image2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31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F5EE-9A58-49B7-98C6-6D2299E4DD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97B1-7522-4683-A788-8DA8DA8C760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84F4-5106-4E27-B6D7-E697F13A515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0F7F-AA27-4BEA-803D-80DB42E48E6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4829-4B0C-45E8-95DF-935A317E605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AD52-77AD-48C7-B274-9E0E79D810F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3FF5-8890-400B-8D0C-8363D79A831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FEA1-7DEF-418D-8D53-F7D5128258A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030F-9B14-4051-956F-15E45875C47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1C92-6B35-4BE6-8DD5-BA735DD0005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2CEA-B994-4D6C-949E-B48259AE9CA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E4DC-984A-4B70-A0CD-DFEF0BDA9E2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5F1D-3B42-4611-935A-045EE58AE30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342E-443D-4C8F-A814-7EBC3FA51EC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6EE-2A14-46E9-8236-C3251FA6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CD5-7F77-48C5-9108-574DC6C7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B90-45FD-46C6-A826-BDBF87DE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2D91-A1EB-475E-8A3D-96380233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A448-C404-4FEF-888B-AAA36E18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0F9D-6AEF-4E0E-91FC-2A205C54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642B-ED84-4F70-B238-89E9FA06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66FE-6321-42FC-A828-6D1DD076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5CAC-5D90-4BD5-AC89-D1344C6A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E66A-5372-4BC7-828C-52DEB72C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4F8C-C515-4F8D-9BB2-0C52F7DD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51D-F5B4-4F0B-A3B6-2F415E14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29D1-99D2-49DA-B324-0AB85199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F432-8D2B-42C2-A248-54EA94E3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E505-0F5E-4AE7-8D55-F961F65F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FBBB-7766-4F99-A274-5A7EE767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09D3-1C17-4791-BD9A-FD064B1B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F57A-2533-4121-A645-3CA4DAE3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7D80-0181-49D0-9715-31DDC84F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4B6D-4DFA-497B-95E7-04705A52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1489-E698-4084-AC14-4B5427E2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6ADF-54A4-4986-9E2A-B6A1E360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C12D-D2E6-4182-A302-8AAB259B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223A-1F0F-4883-915A-DE361013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967B-4A11-4A41-A5C8-0E8333F7F7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33E8-289E-468B-815E-D45F514BD54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4quiz.com/205/apple-quiz/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a8456"/>
                </a:solidFill>
                <a:latin typeface="Comic Sans MS"/>
              </a:rPr>
              <a:t>Quiz for the </a:t>
            </a:r>
            <a:r>
              <a:rPr b="1" lang="ru-RU" sz="5400" spc="-1" strike="noStrike">
                <a:solidFill>
                  <a:srgbClr val="aa8456"/>
                </a:solidFill>
                <a:latin typeface="Comic Sans MS"/>
              </a:rPr>
              <a:t>8</a:t>
            </a:r>
            <a:r>
              <a:rPr b="1" lang="en-US" sz="5400" spc="-1" strike="noStrike" baseline="30000">
                <a:solidFill>
                  <a:srgbClr val="aa8456"/>
                </a:solidFill>
                <a:latin typeface="Comic Sans MS"/>
              </a:rPr>
              <a:t>th</a:t>
            </a:r>
            <a:r>
              <a:rPr b="1" lang="ru-RU" sz="5400" spc="-1" strike="noStrike">
                <a:solidFill>
                  <a:srgbClr val="aa845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aa8456"/>
                </a:solidFill>
                <a:latin typeface="Comic Sans MS"/>
              </a:rPr>
              <a:t>form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Hello, America”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&amp;Scy;&amp;icy;&amp;mcy;&amp;vcy;&amp;ocy;&amp;lcy;&amp;ycy; &amp;Scy;&amp;SHcy;&amp;Acy;"/>
          <p:cNvPicPr/>
          <p:nvPr/>
        </p:nvPicPr>
        <p:blipFill>
          <a:blip r:embed="rId1"/>
          <a:stretch/>
        </p:blipFill>
        <p:spPr>
          <a:xfrm>
            <a:off x="1828800" y="259092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52280" y="304920"/>
            <a:ext cx="9524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What is the name of this building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4572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8456"/>
                </a:solidFill>
                <a:latin typeface="Comic Sans MS"/>
              </a:rPr>
              <a:t>a) the White Hou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8456"/>
                </a:solidFill>
                <a:latin typeface="Comic Sans MS"/>
              </a:rPr>
              <a:t>b) the Supreme Cour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8456"/>
                </a:solidFill>
                <a:latin typeface="Comic Sans MS"/>
              </a:rPr>
              <a:t>c) the Library of Congre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9" descr="c1"/>
          <p:cNvPicPr/>
          <p:nvPr/>
        </p:nvPicPr>
        <p:blipFill>
          <a:blip r:embed="rId1"/>
          <a:stretch/>
        </p:blipFill>
        <p:spPr>
          <a:xfrm>
            <a:off x="3809880" y="2971800"/>
            <a:ext cx="4038840" cy="3662280"/>
          </a:xfrm>
          <a:prstGeom prst="rect">
            <a:avLst/>
          </a:prstGeom>
          <a:ln w="9360">
            <a:solidFill>
              <a:srgbClr val="e9f64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9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What is the name of this building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Picture 7" descr="supreme_court_address"/>
          <p:cNvPicPr/>
          <p:nvPr/>
        </p:nvPicPr>
        <p:blipFill>
          <a:blip r:embed="rId1"/>
          <a:stretch/>
        </p:blipFill>
        <p:spPr>
          <a:xfrm>
            <a:off x="3886200" y="3200400"/>
            <a:ext cx="4800600" cy="331164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a) the Capito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b) the Library of Congres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c) the Supreme Cour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10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What is the name of this building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8456"/>
                </a:solidFill>
                <a:latin typeface="Comic Sans MS"/>
              </a:rPr>
              <a:t>a) the Supreme Cour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8456"/>
                </a:solidFill>
                <a:latin typeface="Comic Sans MS"/>
              </a:rPr>
              <a:t>b) the White Hou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8456"/>
                </a:solidFill>
                <a:latin typeface="Comic Sans MS"/>
              </a:rPr>
              <a:t>c) the Library of Congre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40384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 Unicode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456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405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11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hat do Americans celebrate on the 4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of July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405360" indent="-405360">
              <a:lnSpc>
                <a:spcPct val="100000"/>
              </a:lnSpc>
              <a:buClr>
                <a:srgbClr val="c76819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7681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76819"/>
                </a:solidFill>
                <a:latin typeface="Comic Sans MS"/>
              </a:rPr>
              <a:t>Memorial Day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405360" indent="-405360">
              <a:lnSpc>
                <a:spcPct val="100000"/>
              </a:lnSpc>
              <a:buClr>
                <a:srgbClr val="c76819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76819"/>
                </a:solidFill>
                <a:latin typeface="Comic Sans MS"/>
              </a:rPr>
              <a:t>Thanksgiving Day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405360" indent="-405360">
              <a:lnSpc>
                <a:spcPct val="100000"/>
              </a:lnSpc>
              <a:buClr>
                <a:srgbClr val="c76819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7681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76819"/>
                </a:solidFill>
                <a:latin typeface="Comic Sans MS"/>
              </a:rPr>
              <a:t>Independence Day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22" descr="washington_capitol2_s[1]"/>
          <p:cNvPicPr/>
          <p:nvPr/>
        </p:nvPicPr>
        <p:blipFill>
          <a:blip r:embed="rId1"/>
          <a:stretch/>
        </p:blipFill>
        <p:spPr>
          <a:xfrm>
            <a:off x="2438280" y="3657600"/>
            <a:ext cx="40388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12.Who was the first president of the USA? </a:t>
            </a:r>
            <a:br>
              <a:rPr sz="3600"/>
            </a:br>
            <a:r>
              <a:rPr b="1" lang="en-US" sz="3600" spc="-1" strike="noStrike">
                <a:solidFill>
                  <a:srgbClr val="c76819"/>
                </a:solidFill>
                <a:latin typeface="Comic Sans MS"/>
              </a:rPr>
              <a:t>a) Abraham Lincoln</a:t>
            </a:r>
            <a:br>
              <a:rPr sz="3600"/>
            </a:br>
            <a:r>
              <a:rPr b="1" lang="en-US" sz="3600" spc="-1" strike="noStrike">
                <a:solidFill>
                  <a:srgbClr val="c76819"/>
                </a:solidFill>
                <a:latin typeface="Comic Sans MS"/>
              </a:rPr>
              <a:t>b) Bill Clinton</a:t>
            </a:r>
            <a:br>
              <a:rPr sz="3600"/>
            </a:br>
            <a:r>
              <a:rPr b="1" lang="en-US" sz="3600" spc="-1" strike="noStrike">
                <a:solidFill>
                  <a:srgbClr val="c76819"/>
                </a:solidFill>
                <a:latin typeface="Comic Sans MS"/>
              </a:rPr>
              <a:t>c) George Washington.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                                           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Picture 4" descr="280px-Mountrushmore"/>
          <p:cNvPicPr/>
          <p:nvPr/>
        </p:nvPicPr>
        <p:blipFill>
          <a:blip r:embed="rId1"/>
          <a:stretch/>
        </p:blipFill>
        <p:spPr>
          <a:xfrm>
            <a:off x="1905120" y="3200400"/>
            <a:ext cx="518148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Where in the USA can you find the Golden Gate Bridg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a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) </a:t>
            </a: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San Francis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b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 San Dieg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c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 New Orlea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362320" y="3581280"/>
            <a:ext cx="53337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1066680" y="228600"/>
            <a:ext cx="9982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14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What is the New York underground called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a) the metr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b) the subw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c) the tub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50292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 man in the picture is a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ymbol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f the USA.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hat is his name?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a) Uncle B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b) Uncle T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c) Uncle Sa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0" y="3352680"/>
            <a:ext cx="419112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 average American girl has ten Barbie dolls. But when was Barbie created?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6819"/>
                </a:solidFill>
                <a:latin typeface="Comic Sans MS"/>
              </a:rPr>
              <a:t>a</a:t>
            </a:r>
            <a:r>
              <a:rPr b="1" lang="ru-RU" sz="3200" spc="-1" strike="noStrike">
                <a:solidFill>
                  <a:srgbClr val="c76819"/>
                </a:solidFill>
                <a:latin typeface="Comic Sans MS"/>
              </a:rPr>
              <a:t>) </a:t>
            </a:r>
            <a:r>
              <a:rPr b="1" lang="en-US" sz="3200" spc="-1" strike="noStrike">
                <a:solidFill>
                  <a:srgbClr val="c76819"/>
                </a:solidFill>
                <a:latin typeface="Comic Sans MS"/>
              </a:rPr>
              <a:t>in 1959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6819"/>
                </a:solidFill>
                <a:latin typeface="Comic Sans MS"/>
              </a:rPr>
              <a:t>b</a:t>
            </a:r>
            <a:r>
              <a:rPr b="1" lang="ru-RU" sz="3200" spc="-1" strike="noStrike">
                <a:solidFill>
                  <a:srgbClr val="c76819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c76819"/>
                </a:solidFill>
                <a:latin typeface="Comic Sans MS"/>
              </a:rPr>
              <a:t> in 1979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6819"/>
                </a:solidFill>
                <a:latin typeface="Comic Sans MS"/>
              </a:rPr>
              <a:t>c</a:t>
            </a:r>
            <a:r>
              <a:rPr b="1" lang="ru-RU" sz="3200" spc="-1" strike="noStrike">
                <a:solidFill>
                  <a:srgbClr val="c76819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c76819"/>
                </a:solidFill>
                <a:latin typeface="Comic Sans MS"/>
              </a:rPr>
              <a:t> in 1989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39621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808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17. Disneyland and Hollywood are situated in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8456"/>
                </a:solidFill>
                <a:latin typeface="Comic Sans MS"/>
              </a:rPr>
              <a:t>a) Boston</a:t>
            </a:r>
            <a:br>
              <a:rPr sz="3600"/>
            </a:br>
            <a:r>
              <a:rPr b="1" lang="en-US" sz="3600" spc="-1" strike="noStrike">
                <a:solidFill>
                  <a:srgbClr val="aa8456"/>
                </a:solidFill>
                <a:latin typeface="Comic Sans MS"/>
              </a:rPr>
              <a:t>b) Washingt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8456"/>
                </a:solidFill>
                <a:latin typeface="Comic Sans MS"/>
              </a:rPr>
              <a:t>c) Los Angele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7" name="Picture 7" descr="orlando_disney2"/>
          <p:cNvPicPr/>
          <p:nvPr/>
        </p:nvPicPr>
        <p:blipFill>
          <a:blip r:embed="rId1"/>
          <a:stretch/>
        </p:blipFill>
        <p:spPr>
          <a:xfrm>
            <a:off x="4343400" y="350532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History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2438280" y="2743200"/>
            <a:ext cx="49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Geography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116360" y="4114800"/>
            <a:ext cx="735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and 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Culture of America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18" descr="666097"/>
          <p:cNvPicPr/>
          <p:nvPr/>
        </p:nvPicPr>
        <p:blipFill>
          <a:blip r:embed="rId1"/>
          <a:stretch/>
        </p:blipFill>
        <p:spPr>
          <a:xfrm>
            <a:off x="6400800" y="1219320"/>
            <a:ext cx="2486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80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800"/>
                            </p:stCondLst>
                            <p:childTnLst>
                              <p:par>
                                <p:cTn id="38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18. The city that never sleeps: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76819"/>
                </a:solidFill>
                <a:latin typeface="Comic Sans MS"/>
              </a:rPr>
              <a:t>a) Bost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76819"/>
                </a:solidFill>
                <a:latin typeface="Comic Sans MS"/>
              </a:rPr>
              <a:t>b) Orlando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76819"/>
                </a:solidFill>
                <a:latin typeface="Comic Sans MS"/>
              </a:rPr>
              <a:t>c) New York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0" name="Picture 13" descr="Манхеттен"/>
          <p:cNvPicPr/>
          <p:nvPr/>
        </p:nvPicPr>
        <p:blipFill>
          <a:blip r:embed="rId1"/>
          <a:stretch/>
        </p:blipFill>
        <p:spPr>
          <a:xfrm>
            <a:off x="4260960" y="1752480"/>
            <a:ext cx="3676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4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19. Mount Rushmore is famous: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a) because it is smal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b) because it is big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c) for the sculpture of four American presiden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" descr="&amp;Fcy;&amp;lcy;&amp;acy;&amp;gcy; &amp;shcy;&amp;tcy;&amp;acy;&amp;tcy;&amp;acy; &amp;Zcy;&amp;acy;&amp;mcy;&amp;iecy;&amp;ncy;&amp;acy;, &amp;Scy;&amp;SHcy;&amp;Acy;"/>
          <p:cNvPicPr/>
          <p:nvPr/>
        </p:nvPicPr>
        <p:blipFill>
          <a:blip r:embed="rId1"/>
          <a:stretch/>
        </p:blipFill>
        <p:spPr>
          <a:xfrm>
            <a:off x="3200400" y="3581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456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20. The largest park of the USA is: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a8456"/>
                </a:solidFill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aa8456"/>
                </a:solidFill>
                <a:latin typeface="Comic Sans MS"/>
              </a:rPr>
              <a:t>) Central Park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8456"/>
                </a:solidFill>
                <a:latin typeface="Comic Sans MS"/>
              </a:rPr>
              <a:t>b) Hyde Park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8456"/>
                </a:solidFill>
                <a:latin typeface="Comic Sans MS"/>
              </a:rPr>
              <a:t>c) Royal Park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6" name="" descr="&amp;Pcy;&amp;acy;&amp;ncy;&amp;ocy;&amp;rcy;&amp;acy;&amp;mcy;&amp;acy; &amp;Ncy;&amp;softcy;&amp;yucy;-&amp;Jcy;&amp;ocy;&amp;rcy;&amp;kcy;&amp;acy;"/>
          <p:cNvPicPr/>
          <p:nvPr/>
        </p:nvPicPr>
        <p:blipFill>
          <a:blip r:embed="rId1"/>
          <a:stretch/>
        </p:blipFill>
        <p:spPr>
          <a:xfrm>
            <a:off x="3581280" y="3505320"/>
            <a:ext cx="49532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228600" y="228600"/>
            <a:ext cx="967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21. Christopher Columbus discovered America i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140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149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139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9" name="" descr="Mayflower, &amp;Mcy;&amp;acy;&amp;scy;&amp;scy;&amp;acy;&amp;chcy;&amp;ucy;&amp;scy;&amp;iecy;&amp;tcy;&amp;scy;, &amp;Scy;&amp;SHcy;&amp;Acy;"/>
          <p:cNvPicPr/>
          <p:nvPr/>
        </p:nvPicPr>
        <p:blipFill>
          <a:blip r:embed="rId1"/>
          <a:stretch/>
        </p:blipFill>
        <p:spPr>
          <a:xfrm>
            <a:off x="2895480" y="2286000"/>
            <a:ext cx="60199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1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22.The “Mayflower” is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a8456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) the name of the flow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b) the name of the ship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c) the name of the first English settlement in Americ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" descr="&amp;Dcy;&amp;iecy;&amp;ncy;&amp;softcy; &amp;bcy;&amp;lcy;&amp;acy;&amp;gcy;&amp;ocy;&amp;dcy;&amp;acy;&amp;rcy;&amp;iecy;&amp;ncy;&amp;icy;&amp;yacy;, &amp;Mcy;&amp;acy;&amp;scy;&amp;scy;&amp;acy;&amp;chcy;&amp;ucy;&amp;scy;&amp;iecy;&amp;tcy;&amp;scy;, &amp;Scy;&amp;SHcy;&amp;Acy;"/>
          <p:cNvPicPr/>
          <p:nvPr/>
        </p:nvPicPr>
        <p:blipFill>
          <a:blip r:embed="rId1"/>
          <a:stretch/>
        </p:blipFill>
        <p:spPr>
          <a:xfrm>
            <a:off x="2590920" y="3792600"/>
            <a:ext cx="40384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0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23. Niagara Falls are: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8456"/>
                </a:solidFill>
                <a:latin typeface="Comic Sans MS"/>
              </a:rPr>
              <a:t>Natural attrac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8456"/>
                </a:solidFill>
                <a:latin typeface="Comic Sans MS"/>
              </a:rPr>
              <a:t>b) Event attrac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8456"/>
                </a:solidFill>
                <a:latin typeface="Comic Sans MS"/>
              </a:rPr>
              <a:t>c) Man-made attraction</a:t>
            </a:r>
            <a:r>
              <a:rPr b="1" lang="en-US" sz="5400" spc="-1" strike="noStrike">
                <a:solidFill>
                  <a:srgbClr val="cc00cc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5" name="" descr="&amp;Ncy;&amp;icy;&amp;acy;&amp;gcy;&amp;acy;&amp;rcy;&amp;acy;"/>
          <p:cNvPicPr/>
          <p:nvPr/>
        </p:nvPicPr>
        <p:blipFill>
          <a:blip r:embed="rId1"/>
          <a:stretch/>
        </p:blipFill>
        <p:spPr>
          <a:xfrm>
            <a:off x="259092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7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609480" y="151920"/>
            <a:ext cx="10515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24.</a:t>
            </a: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Thanksgiving is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celebrated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…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6094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a8456"/>
                </a:solidFill>
                <a:latin typeface="Comic Sans MS"/>
              </a:rPr>
              <a:t>a) on the 4th Thursday of November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a8456"/>
                </a:solidFill>
                <a:latin typeface="Comic Sans MS"/>
              </a:rPr>
              <a:t>b) on the 4th Tuesday of November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a8456"/>
                </a:solidFill>
                <a:latin typeface="Comic Sans MS"/>
              </a:rPr>
              <a:t>c) on November 26</a:t>
            </a:r>
            <a:r>
              <a:rPr b="1" lang="en-US" sz="3600" spc="-1" strike="noStrike">
                <a:solidFill>
                  <a:srgbClr val="aa8456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362320" y="3979800"/>
            <a:ext cx="43434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25.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 At the time of the American Civil War, ________ was president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6094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8456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a)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 Robert E Lee </a:t>
            </a: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                             b) 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George Washington </a:t>
            </a: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                           c) 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 Abraham Lincoln</a:t>
            </a: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2280" y="304920"/>
            <a:ext cx="94485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26.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The longest river in the USA is the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…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a)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 Missouri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b)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 Mississippi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c)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 Rio Grand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4" name="Picture 65" descr="сканирование0003"/>
          <p:cNvPicPr/>
          <p:nvPr/>
        </p:nvPicPr>
        <p:blipFill>
          <a:blip r:embed="rId1"/>
          <a:stretch/>
        </p:blipFill>
        <p:spPr>
          <a:xfrm>
            <a:off x="4114800" y="1981080"/>
            <a:ext cx="27781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77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770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7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9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27.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The three biggest cities are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…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a)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 New York, Los Angeles and Houston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b)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 New York, Los Angeles and Chicago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c)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 New York, Los Angeles and Philadelphia</a:t>
            </a: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" descr="&amp;Mcy;&amp;icy;&amp;dcy;&amp;tcy;&amp;acy;&amp;ucy;&amp;ncy; &amp;Mcy;&amp;acy;&amp;ncy;&amp;khcy;&amp;ecy;&amp;tcy;&amp;tcy;&amp;iecy;&amp;ncy;&amp;acy;"/>
          <p:cNvPicPr/>
          <p:nvPr/>
        </p:nvPicPr>
        <p:blipFill>
          <a:blip r:embed="rId1"/>
          <a:stretch/>
        </p:blipFill>
        <p:spPr>
          <a:xfrm>
            <a:off x="2133720" y="3581280"/>
            <a:ext cx="41907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77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2" dur="770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4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6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1. How many states are in the USA?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2388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8456"/>
                </a:solidFill>
                <a:latin typeface="Comic Sans MS"/>
              </a:rPr>
              <a:t>4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8456"/>
                </a:solidFill>
                <a:latin typeface="Comic Sans MS"/>
              </a:rPr>
              <a:t>45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8456"/>
                </a:solidFill>
                <a:latin typeface="Comic Sans MS"/>
              </a:rPr>
              <a:t>5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44197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28.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The biggest state is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a)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 Californi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b)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 Texa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c) 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Arizon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0" name="Picture 6" descr="D:\mygeography\Презентации\США\map1.png"/>
          <p:cNvPicPr/>
          <p:nvPr/>
        </p:nvPicPr>
        <p:blipFill>
          <a:blip r:embed="rId1"/>
          <a:stretch/>
        </p:blipFill>
        <p:spPr>
          <a:xfrm>
            <a:off x="2438280" y="3429000"/>
            <a:ext cx="45007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9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1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3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29.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The most recent state to join the union was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…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a) 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 Hawaii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b)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 Alask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c)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 Puerto R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3" name="" descr="&amp;Scy;&amp;icy;&amp;mcy;&amp;vcy;&amp;ocy;&amp;lcy; &amp;Scy;&amp;SHcy;&amp;Acy;"/>
          <p:cNvPicPr/>
          <p:nvPr/>
        </p:nvPicPr>
        <p:blipFill>
          <a:blip r:embed="rId1"/>
          <a:stretch/>
        </p:blipFill>
        <p:spPr>
          <a:xfrm>
            <a:off x="3581280" y="2590920"/>
            <a:ext cx="48006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77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6" dur="770" fill="hold"/>
                                        <p:tgtEl>
                                          <p:spTgt spid="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8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0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30. </a:t>
            </a: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Which city is known as the Big </a:t>
            </a:r>
            <a:r>
              <a:rPr b="0" lang="ru-RU" sz="4800" spc="-1" strike="noStrike" u="sng">
                <a:solidFill>
                  <a:srgbClr val="eec85e"/>
                </a:solidFill>
                <a:uFillTx/>
                <a:latin typeface="Comic Sans MS"/>
                <a:hlinkClick r:id="rId1"/>
              </a:rPr>
              <a:t>Apple</a:t>
            </a: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a) 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Los Angel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b)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 Washington D.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c)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 New York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6" name="" descr="&amp;Ocy;&amp;scy;&amp;tcy;&amp;rcy;&amp;ocy;&amp;vcy; &amp;Mcy;&amp;acy;&amp;ncy;&amp;khcy;&amp;ecy;&amp;tcy;&amp;tcy;&amp;iecy;&amp;ncy;"/>
          <p:cNvPicPr/>
          <p:nvPr/>
        </p:nvPicPr>
        <p:blipFill>
          <a:blip r:embed="rId2"/>
          <a:stretch/>
        </p:blipFill>
        <p:spPr>
          <a:xfrm>
            <a:off x="2514600" y="335268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31.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Which is the tallest building in USA?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a8456"/>
                </a:solidFill>
                <a:latin typeface="Comic Sans MS"/>
              </a:rPr>
              <a:t>Empire Stat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a8456"/>
                </a:solidFill>
                <a:latin typeface="Comic Sans MS"/>
              </a:rPr>
              <a:t>Sears Tower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a8456"/>
                </a:solidFill>
                <a:latin typeface="Comic Sans MS"/>
              </a:rPr>
              <a:t>St. Patrick’s Cathedral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aa8456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9" name="" descr="&amp;Bcy;&amp;rcy;&amp;ucy;&amp;kcy;&amp;lcy;&amp;icy;&amp;ncy;&amp;scy;&amp;kcy;&amp;icy;&amp;jcy; &amp;mcy;&amp;ocy;&amp;scy;&amp;tcy;"/>
          <p:cNvPicPr/>
          <p:nvPr/>
        </p:nvPicPr>
        <p:blipFill>
          <a:blip r:embed="rId1"/>
          <a:stretch/>
        </p:blipFill>
        <p:spPr>
          <a:xfrm>
            <a:off x="259092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32.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How much is a dime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aa8456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a8456"/>
                </a:solidFill>
                <a:latin typeface="Comic Sans MS"/>
              </a:rPr>
              <a:t>5 ce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aa8456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a8456"/>
                </a:solidFill>
                <a:latin typeface="Comic Sans MS"/>
              </a:rPr>
              <a:t>10 ce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aa8456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a8456"/>
                </a:solidFill>
                <a:latin typeface="Comic Sans MS"/>
              </a:rPr>
              <a:t>25 ce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aa8456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a8456"/>
                </a:solidFill>
                <a:latin typeface="Comic Sans MS"/>
              </a:rPr>
              <a:t>50 cents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aa845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2" name="" descr="&amp;Pcy;&amp;iecy;&amp;chcy;&amp;acy;&amp;tcy;&amp;softcy; &amp;shcy;&amp;tcy;&amp;acy;&amp;tcy;&amp;acy; &amp;Zcy;&amp;acy;&amp;mcy;&amp;iecy;&amp;ncy;&amp;acy;, &amp;Scy;&amp;SHcy;&amp;Acy;"/>
          <p:cNvPicPr/>
          <p:nvPr/>
        </p:nvPicPr>
        <p:blipFill>
          <a:blip r:embed="rId1"/>
          <a:stretch/>
        </p:blipFill>
        <p:spPr>
          <a:xfrm>
            <a:off x="3657600" y="2209680"/>
            <a:ext cx="45007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33.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In which year was the independence from England declared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177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187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167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1778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92160" y="4952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6" name="" descr="&amp;Fcy;&amp;iecy;&amp;jcy;&amp;iecy;&amp;rcy;&amp;vcy;&amp;iecy;&amp;rcy;&amp;kcy; &amp;vcy; &amp;chcy;&amp;iecy;&amp;scy;&amp;tcy;&amp;softcy; &amp;Dcy;&amp;ncy;&amp;yacy; &amp;ncy;&amp;iecy;&amp;zcy;&amp;acy;&amp;vcy;&amp;icy;&amp;scy;&amp;icy;&amp;mcy;&amp;ocy;&amp;scy;&amp;tcy;&amp;icy; &amp;vcy; &amp;Ncy;&amp;softcy;&amp;yucy;-&amp;Jcy;&amp;ocy;&amp;rcy;&amp;kcy;&amp;iecy;"/>
          <p:cNvPicPr/>
          <p:nvPr/>
        </p:nvPicPr>
        <p:blipFill>
          <a:blip r:embed="rId1"/>
          <a:stretch/>
        </p:blipFill>
        <p:spPr>
          <a:xfrm>
            <a:off x="2819520" y="27432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34.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Which president freed the slaves?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Thomas Jeffers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George Washingt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Abrahan Lincoln</a:t>
            </a: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Henry For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9" name="" descr="&amp;Bcy;&amp;iecy;&amp;lcy;&amp;ycy;&amp;jcy; &amp;dcy;&amp;ocy;&amp;mcy;"/>
          <p:cNvPicPr/>
          <p:nvPr/>
        </p:nvPicPr>
        <p:blipFill>
          <a:blip r:embed="rId1"/>
          <a:stretch/>
        </p:blipFill>
        <p:spPr>
          <a:xfrm>
            <a:off x="3886200" y="33526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35.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Who was the first person to walk on the moon?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a8456"/>
                </a:solidFill>
                <a:latin typeface="Comic Sans MS"/>
              </a:rPr>
              <a:t>John Glenn</a:t>
            </a:r>
            <a:r>
              <a:rPr b="1" lang="en-US" sz="3600" spc="-1" strike="noStrike">
                <a:solidFill>
                  <a:srgbClr val="aa8456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a8456"/>
                </a:solidFill>
                <a:latin typeface="Comic Sans MS"/>
              </a:rPr>
              <a:t>Jim Lowell</a:t>
            </a:r>
            <a:r>
              <a:rPr b="1" lang="en-US" sz="3600" spc="-1" strike="noStrike">
                <a:solidFill>
                  <a:srgbClr val="aa8456"/>
                </a:solidFill>
                <a:latin typeface="Comic Sans MS"/>
              </a:rPr>
              <a:t>c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a8456"/>
                </a:solidFill>
                <a:latin typeface="Comic Sans MS"/>
              </a:rPr>
              <a:t>Neil Armstrong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2" name="" descr="&amp;Fcy;&amp;lcy;&amp;acy;&amp;gcy; &amp;Scy;&amp;SHcy;&amp;Acy;"/>
          <p:cNvPicPr/>
          <p:nvPr/>
        </p:nvPicPr>
        <p:blipFill>
          <a:blip r:embed="rId1"/>
          <a:stretch/>
        </p:blipFill>
        <p:spPr>
          <a:xfrm>
            <a:off x="2514600" y="3733920"/>
            <a:ext cx="39625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36.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Who was the civil rights leader who fought through nonviolent action?</a:t>
            </a:r>
            <a:br>
              <a:rPr sz="40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Thomas Paine</a:t>
            </a: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Martin Luther King J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John Kennedy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038480" y="342900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37.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What are the two major parties in the US?.</a:t>
            </a:r>
            <a:br>
              <a:rPr sz="40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t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he Republicans and the Democra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t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he Republics and the Socialis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t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he Democrats and the Socialis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t</a:t>
            </a: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he Conservationists and the Democrats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8" name="" descr="&amp;Pcy;&amp;acy;&amp;ncy;&amp;ocy;&amp;rcy;&amp;acy;&amp;mcy;&amp;acy; &amp;Vcy;&amp;acy;&amp;shcy;&amp;icy;&amp;ncy;&amp;gcy;&amp;tcy;&amp;ocy;&amp;ncy;&amp;acy;, &amp;ocy;&amp;kcy;&amp;rcy;&amp;ucy;&amp;gcy; &amp;Kcy;&amp;ocy;&amp;lcy;&amp;ucy;&amp;mcy;&amp;bcy;&amp;icy;&amp;yacy;, &amp;Scy;&amp;SHcy;&amp;Acy;"/>
          <p:cNvPicPr/>
          <p:nvPr/>
        </p:nvPicPr>
        <p:blipFill>
          <a:blip r:embed="rId1"/>
          <a:stretch/>
        </p:blipFill>
        <p:spPr>
          <a:xfrm>
            <a:off x="2743200" y="388620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2. What is the capital of the USA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76819"/>
                </a:solidFill>
                <a:latin typeface="Comic Sans MS"/>
              </a:rPr>
              <a:t>New York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76819"/>
                </a:solidFill>
                <a:latin typeface="Comic Sans MS"/>
              </a:rPr>
              <a:t>Washington, D.C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76819"/>
                </a:solidFill>
                <a:latin typeface="Comic Sans MS"/>
              </a:rPr>
              <a:t>Washington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5" descr="s_photo583[1]"/>
          <p:cNvPicPr/>
          <p:nvPr/>
        </p:nvPicPr>
        <p:blipFill>
          <a:blip r:embed="rId1"/>
          <a:stretch/>
        </p:blipFill>
        <p:spPr>
          <a:xfrm>
            <a:off x="4343400" y="37339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38.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How many people live in the USA?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205 Million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251 Million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297 Mill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355 Million</a:t>
            </a:r>
            <a:br>
              <a:rPr sz="3200"/>
            </a:br>
            <a:r>
              <a:rPr b="1" lang="ru-RU" sz="3200" spc="-1" strike="noStrike">
                <a:solidFill>
                  <a:srgbClr val="aa845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1" name="" descr="&amp;Ncy;&amp;acy;&amp;scy;&amp;iecy;&amp;lcy;&amp;iecy;&amp;ncy;&amp;icy;&amp;iecy; &amp;Scy;&amp;SHcy;&amp;Acy;"/>
          <p:cNvPicPr/>
          <p:nvPr/>
        </p:nvPicPr>
        <p:blipFill>
          <a:blip r:embed="rId1"/>
          <a:stretch/>
        </p:blipFill>
        <p:spPr>
          <a:xfrm>
            <a:off x="3657600" y="2438280"/>
            <a:ext cx="41814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39.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Where is Alcatraz?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8456"/>
                </a:solidFill>
                <a:latin typeface="Comic Sans MS"/>
              </a:rPr>
              <a:t>a) </a:t>
            </a:r>
            <a:r>
              <a:rPr b="1" lang="ru-RU" sz="3600" spc="-1" strike="noStrike">
                <a:solidFill>
                  <a:srgbClr val="aa8456"/>
                </a:solidFill>
                <a:latin typeface="Comic Sans MS"/>
              </a:rPr>
              <a:t>in New York Harbor </a:t>
            </a:r>
            <a:br>
              <a:rPr sz="3600"/>
            </a:br>
            <a:r>
              <a:rPr b="1" lang="en-US" sz="3600" spc="-1" strike="noStrike">
                <a:solidFill>
                  <a:srgbClr val="aa8456"/>
                </a:solidFill>
                <a:latin typeface="Comic Sans MS"/>
              </a:rPr>
              <a:t>b) </a:t>
            </a:r>
            <a:r>
              <a:rPr b="1" lang="ru-RU" sz="3600" spc="-1" strike="noStrike">
                <a:solidFill>
                  <a:srgbClr val="aa8456"/>
                </a:solidFill>
                <a:latin typeface="Comic Sans MS"/>
              </a:rPr>
              <a:t>in San Francisco Bay</a:t>
            </a:r>
            <a:br>
              <a:rPr sz="3600"/>
            </a:br>
            <a:r>
              <a:rPr b="1" lang="en-US" sz="3600" spc="-1" strike="noStrike">
                <a:solidFill>
                  <a:srgbClr val="aa8456"/>
                </a:solidFill>
                <a:latin typeface="Comic Sans MS"/>
              </a:rPr>
              <a:t>c) </a:t>
            </a:r>
            <a:r>
              <a:rPr b="1" lang="ru-RU" sz="3600" spc="-1" strike="noStrike">
                <a:solidFill>
                  <a:srgbClr val="aa8456"/>
                </a:solidFill>
                <a:latin typeface="Comic Sans MS"/>
              </a:rPr>
              <a:t>in Sydney Harbor </a:t>
            </a:r>
            <a:br>
              <a:rPr sz="3600"/>
            </a:br>
            <a:r>
              <a:rPr b="1" lang="en-US" sz="3600" spc="-1" strike="noStrike">
                <a:solidFill>
                  <a:srgbClr val="aa8456"/>
                </a:solidFill>
                <a:latin typeface="Comic Sans MS"/>
              </a:rPr>
              <a:t>d) </a:t>
            </a:r>
            <a:r>
              <a:rPr b="1" lang="ru-RU" sz="3600" spc="-1" strike="noStrike">
                <a:solidFill>
                  <a:srgbClr val="aa8456"/>
                </a:solidFill>
                <a:latin typeface="Comic Sans MS"/>
              </a:rPr>
              <a:t>on the South coast of Florida</a:t>
            </a:r>
            <a:br>
              <a:rPr sz="3600"/>
            </a:br>
            <a:r>
              <a:rPr b="1" lang="ru-RU" sz="3600" spc="-1" strike="noStrike">
                <a:solidFill>
                  <a:srgbClr val="aa8456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Which state of the USA is called </a:t>
            </a: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Sunshine State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?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Arizona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California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Florida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Kentucky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Capitol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259080" cy="4530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US-Capitol"/>
          <p:cNvPicPr/>
          <p:nvPr/>
        </p:nvPicPr>
        <p:blipFill>
          <a:blip r:embed="rId2"/>
          <a:stretch/>
        </p:blipFill>
        <p:spPr>
          <a:xfrm>
            <a:off x="4724280" y="1600200"/>
            <a:ext cx="3810240" cy="4530600"/>
          </a:xfrm>
          <a:prstGeom prst="rect">
            <a:avLst/>
          </a:prstGeom>
          <a:ln w="38160">
            <a:solidFill>
              <a:srgbClr val="eaed6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77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5" dur="770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7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9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Arial"/>
              </a:rPr>
              <a:t>The end</a:t>
            </a:r>
            <a:endParaRPr b="0" lang="en-US" sz="9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01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1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5fd5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3.The Statue of Liberty is situated in: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aa8456"/>
                </a:solidFill>
                <a:latin typeface="Comic Sans MS"/>
              </a:rPr>
              <a:t>a) New York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a8456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aa8456"/>
                </a:solidFill>
                <a:latin typeface="Comic Sans MS"/>
              </a:rPr>
              <a:t>b) Washington,D.C.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a8456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aa8456"/>
                </a:solidFill>
                <a:latin typeface="Comic Sans MS"/>
              </a:rPr>
              <a:t>c) Florida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&amp;Scy;&amp;SHcy;&amp;Acy;, &amp;Scy;&amp;iecy;&amp;vcy;&amp;iecy;&amp;rcy;&amp;ncy;&amp;acy;&amp;yacy; &amp;Acy;&amp;mcy;&amp;iecy;&amp;rcy;&amp;icy;&amp;kcy;&amp;acy;"/>
          <p:cNvPicPr/>
          <p:nvPr/>
        </p:nvPicPr>
        <p:blipFill>
          <a:blip r:embed="rId1"/>
          <a:stretch/>
        </p:blipFill>
        <p:spPr>
          <a:xfrm>
            <a:off x="4343400" y="3581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Who created the first American flag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a) Betsy Ros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b) Abraham Lincol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c) George Washingt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d) Thomas Jefferso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&amp;Fcy;&amp;lcy;&amp;acy;&amp;gcy; &amp;Scy;&amp;SHcy;&amp;Acy;"/>
          <p:cNvPicPr/>
          <p:nvPr/>
        </p:nvPicPr>
        <p:blipFill>
          <a:blip r:embed="rId1"/>
          <a:stretch/>
        </p:blipFill>
        <p:spPr>
          <a:xfrm>
            <a:off x="4876920" y="1523880"/>
            <a:ext cx="3895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28240" y="2895480"/>
            <a:ext cx="8915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5. The American flag is often called…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6819"/>
                </a:solidFill>
                <a:latin typeface="Comic Sans MS"/>
              </a:rPr>
              <a:t>Union Jac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6819"/>
                </a:solidFill>
                <a:latin typeface="Comic Sans MS"/>
              </a:rPr>
              <a:t>the Stars and Strip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6819"/>
                </a:solidFill>
                <a:latin typeface="Comic Sans MS"/>
              </a:rPr>
              <a:t>the White Eagl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0292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6.The official national symbol of the USA is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8456"/>
                </a:solidFill>
                <a:latin typeface="Comic Sans MS"/>
              </a:rPr>
              <a:t>the eagl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8456"/>
                </a:solidFill>
                <a:latin typeface="Comic Sans MS"/>
              </a:rPr>
              <a:t>the Statue of Liberty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8456"/>
                </a:solidFill>
                <a:latin typeface="Comic Sans MS"/>
              </a:rPr>
              <a:t>the turkey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12" descr="D:\mygeography\Презентации\США\map5.png"/>
          <p:cNvPicPr/>
          <p:nvPr/>
        </p:nvPicPr>
        <p:blipFill>
          <a:blip r:embed="rId1"/>
          <a:stretch/>
        </p:blipFill>
        <p:spPr>
          <a:xfrm>
            <a:off x="4038480" y="2590920"/>
            <a:ext cx="510552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hat is the American flag called?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a) Union Jac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b) Union Fla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8456"/>
                </a:solidFill>
                <a:latin typeface="Comic Sans MS"/>
              </a:rPr>
              <a:t>c) Stars and Strip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24" descr="last9"/>
          <p:cNvPicPr/>
          <p:nvPr/>
        </p:nvPicPr>
        <p:blipFill>
          <a:blip r:embed="rId1"/>
          <a:stretch/>
        </p:blipFill>
        <p:spPr>
          <a:xfrm>
            <a:off x="2590920" y="335268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-47</cp:lastModifiedBy>
  <dcterms:modified xsi:type="dcterms:W3CDTF">2013-04-09T05:17:22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