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0B29-EB7C-4DDD-83D6-736D4CC24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31D0-9A69-49AA-9A19-BC22E1A21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6A6D-A34A-4E13-B0CF-FFB2B0761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C112-CB86-489C-B445-324A83D2A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C33A3-BD2E-45DD-BE2F-C500C6FA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906BD-6D32-4121-BF91-A9F7AF13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BF9FE-07CD-487A-B61C-E3ED102F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A7D80-71F2-4E22-8BF2-5BD11359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65F72-362D-4542-927A-0BA7542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74DE7-F1F3-4FD4-A138-B824CEA4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3152F-A825-4C05-9B87-82FAF44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2AAF-F007-44A2-AAB3-6B4B34DB3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6FE37-043E-4C70-BD24-FB4F46B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9174C-2B6E-4D5B-AE4A-156A79C5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E5A73-1697-4252-B229-A72C407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3D819-DDDF-4228-B81D-9A1CD338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9364C-CF18-45B1-B7DF-35642604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E467B-748B-480B-8E84-42F7B279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2305A-DE5F-4648-9F02-E31CC32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2B7FB-D352-401E-A77F-1DEFDE38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822D0-3F6E-426C-A5F4-0BD1F5A2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B6F92-A7DD-4A8B-AB8D-A34DC122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3665-EECE-44DC-A084-920E3BEDD3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63C8F-8C6D-4410-A188-7D8D1BC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36471-8D74-44DA-83C2-B0D9750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D6417-AC90-44E3-995E-FA36CFC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CB32C-D524-4CD6-A20B-D39BE38C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CC0A2-CA7B-4826-9C35-BA408D58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9D7CD-4DF4-4D1A-8101-A1506BAB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7BA1E-3C01-4FFE-8AF2-9BD71FDA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E0C68C-21C8-438E-8B43-A034913B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19BE0-AC3D-4109-8A5C-A219D0E4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FA64B-2669-43C3-A023-D0A5E833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6539-B3BF-43D5-A268-2DBB36BD1B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11A5A-8179-45B1-BD38-57C971B3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E8C57-4D25-4C18-8AE3-D2B477D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EE3CE-6E8D-4875-8924-388B236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CEF56-8996-4A49-95B3-6ABDD5B1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1869C-DC04-4434-A16A-A7BB155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955A7-229D-4CDB-96BF-CB31A0E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01909-9A66-4AD8-8CA0-FB7514CD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B0D44-65D2-4773-8FAD-B38E9C8E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FB212-318D-4ECB-BA37-0EE9780E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04C28-A31B-46E0-98A6-4FD61121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1140-6A2D-4EE4-8EC3-9EA1636CE7F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EC689-45FD-4D16-9D00-6AA8AA7A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088B0-C441-46D9-8D33-566E3023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D5F94F-C161-48C2-A127-EC4A5B1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F1B20-7FA3-452D-841B-0889DE64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39E6E-7004-4A5E-AC30-52453C22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6A7CA-B2AE-42AE-97F8-45A1DBC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473825-4A6B-4D34-84B2-FF32B57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3D56B6-A3A6-460A-88AA-3E9C630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5D964-6AC0-42D8-95FB-7284529E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086052-6297-4274-A28E-635BFAC1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8250-32DC-4DC6-AE6F-EAB9D53630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AF9751-E8CB-4484-BC5E-30AB4594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7AA4FC-BD95-48CB-8C47-4206F3F2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78C1A-E2CF-47A5-BCDA-BC41F429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A63369-654F-4571-8192-CD96135A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A0DD52-DD0D-4C74-A4B2-A18D4EF1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FA66FF-996F-4A64-9C42-8CC80B09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CDB0A5-6918-4DA8-930C-7F71C62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B3E58B-B038-4D63-BEF5-A7F4E0CF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81EEAD-E636-4AAE-875A-BBC93782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3FBE3-7F65-4FA3-9E8D-D4448EC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CC43-1C72-4B6D-9DC1-6F0930F678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0945C-0C49-40AD-BD4E-799F4A34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870F5-A3AA-4D12-8792-8D95093C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0D0B61-4149-43C1-A3EA-D129E30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90B4DE-C20F-4F99-8B70-7F4BC3B3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034E2-6F4E-4A8F-8713-A3FD3DFC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3DC416-6E49-4066-8D0C-B32ABB1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E20C7-AF64-4478-B9A2-52D6D873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C9F5D-4E23-4B46-B222-4C94C08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B62E6-7932-4175-8323-AC3A877D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B0F964-C672-40B6-8260-E9068FE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C0F9-44D0-4536-893F-E4D295FF8A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5D6EF-F9E2-42BF-9167-E926521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CE1D0-18B0-42A2-8D0F-BAD9704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D267AD-6285-4D08-9F88-EEA6388C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B875A-B9D7-49FB-B72D-E1DC0C73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6D467C-8767-465A-B928-B209BC5C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DA105F-75C2-4E50-A7C9-5FBC1759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B23A0-476B-4F80-8713-5784F159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D0286B-B0E6-47AD-AB12-631D6EB6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5B271A-5D65-4FE6-9660-52922459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F1BEE7-C07B-40A0-98A1-48D93409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E4A2-D546-4393-86C1-EDE2C5929B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6840" y="-132120"/>
            <a:ext cx="82249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CA848-4B07-4568-B40E-D502BD9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186DDF-4990-43F9-8C5A-0EA9D37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939212-F2DD-4547-B035-08DF30DD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BE31DB-54A8-4A7D-AE8B-7231301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087FE4-EEA0-4CBD-95EE-ABCA1583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E5ED04-21A9-4B4D-9EED-FF960CD1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75EFD-C508-43A6-8C3D-156E3254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84D4-BF37-4FCE-9A32-F0440505818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B45A34-27D6-45B2-9C23-F66168B4D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1B3172-9448-4727-AE14-43F7AC317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6A9274-08B2-4F24-A722-DDF01857EE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-5760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FF07B9-F560-4F5F-9C9D-DBC030504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-5580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AA4E6C-4ADB-4C43-A9DD-598A4D70D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201E98-4B61-4125-97A9-344ED698E0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46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-132120"/>
            <a:ext cx="82249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0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1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2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8AF117-F717-4D19-93ED-ED532AC91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400720" y="2340000"/>
            <a:ext cx="2519280" cy="3060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500720" y="1800360"/>
            <a:ext cx="1807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340000" y="719280"/>
            <a:ext cx="5219640" cy="2160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988687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Alice's Adventures in Wonderlan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800360" y="2340000"/>
            <a:ext cx="2519280" cy="2879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00360" y="5219640"/>
            <a:ext cx="28796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Lewis Car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4600" y="5580000"/>
            <a:ext cx="84646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икторину составила учитель англий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МАОУ СОШ № 36 г. 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Лобанова Светлана Игор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60720" y="720720"/>
            <a:ext cx="539892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bo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sh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waistc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ro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. 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. se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0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20720" y="360360"/>
            <a:ext cx="77389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804c19"/>
                </a:solidFill>
                <a:latin typeface="Berlin Sans FB"/>
              </a:rPr>
              <a:t>Put the sentences in the right or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2160720"/>
            <a:ext cx="792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Alice follows the White Rabbit into a rabbit 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9640" y="2957400"/>
            <a:ext cx="828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Alice and her older sister are sitting by the river on a hot afternoon when Alice sees a White Rab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140360"/>
            <a:ext cx="792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She meets talking animals and birds, and some  very strang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5303880"/>
            <a:ext cx="774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She falls and falls for a very lo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0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700360" y="720720"/>
            <a:ext cx="48592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0360" y="1979640"/>
            <a:ext cx="8640720" cy="68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The white Rabbit shouts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The March Hare cries all day and he thinks that his life is ver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People are scared of the Qu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The Duchess gets very angry with people and wants to cut off their h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The King of Hearts likes Alice and tries to help her when she is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The Hatter is friendly and che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Alice is very kind and cares about 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0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25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25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25" fill="hold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60360" y="179280"/>
            <a:ext cx="878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Read and correct the words in b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9280" y="1878120"/>
            <a:ext cx="414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 Duch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is sa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cries all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5040360"/>
            <a:ext cx="431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The Duchess is ver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autifu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3857760"/>
            <a:ext cx="468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Th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Hat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never shouts, and he doesn't angry very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2778120"/>
            <a:ext cx="4319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The Mock Turtle is ver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heerfu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5940360"/>
            <a:ext cx="4319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The Mock Turtle tells Alic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jok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40360" y="5035680"/>
            <a:ext cx="37796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Duchess is very    </a:t>
            </a: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ug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40360" y="5940360"/>
            <a:ext cx="3959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Mock Turtle tells Alice </a:t>
            </a: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804c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stor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0360" y="1878120"/>
            <a:ext cx="3779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The Mock Turtl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sa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cries all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40360" y="378000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King of Heart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ever shouts, and he doesn't angry very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40360" y="2778120"/>
            <a:ext cx="360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Mock Turtle is very   </a:t>
            </a: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s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0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580000" y="720720"/>
            <a:ext cx="3419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594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Do the cross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0000" y="1260360"/>
            <a:ext cx="39589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0000" y="1619280"/>
            <a:ext cx="39589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00360" y="126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160720" y="126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19280" y="126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79640" y="126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0" y="126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00360" y="126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59280" y="126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19640" y="126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80000" y="126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40360" y="1260360"/>
            <a:ext cx="1440" cy="431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00720" y="1260360"/>
            <a:ext cx="1440" cy="431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40360" y="197964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40360" y="234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40360" y="2700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40360" y="306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40360" y="341964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40360" y="378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360" y="4140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40360" y="450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40360" y="4859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17480" y="5219640"/>
            <a:ext cx="46864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17480" y="5580000"/>
            <a:ext cx="46864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959280" y="5216040"/>
            <a:ext cx="1440" cy="366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00360" y="521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0" y="521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79640" y="521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19280" y="521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60720" y="52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00360" y="52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0000" y="52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79640" y="4140360"/>
            <a:ext cx="1440" cy="143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19640" y="52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80000" y="52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440000" y="1255320"/>
            <a:ext cx="1440" cy="366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20720" y="4136760"/>
            <a:ext cx="1440" cy="1446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16040" y="4859280"/>
            <a:ext cx="3664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0720" y="450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0720" y="414036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79640" y="4500720"/>
            <a:ext cx="3240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0000" y="414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00360" y="414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9280" y="414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79640" y="414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40000" y="414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00360" y="414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959280" y="1977840"/>
            <a:ext cx="1440" cy="2525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319640" y="1977840"/>
            <a:ext cx="1440" cy="2525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955680" y="378000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955680" y="341964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955680" y="306072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55680" y="270036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876400" y="2340000"/>
            <a:ext cx="14464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76400" y="1979640"/>
            <a:ext cx="14464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00360" y="197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0" y="1979640"/>
            <a:ext cx="1800" cy="144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79640" y="1979640"/>
            <a:ext cx="1800" cy="144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876040" y="270036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076040" y="3060720"/>
            <a:ext cx="21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076040" y="3419640"/>
            <a:ext cx="21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519280" y="3056040"/>
            <a:ext cx="1800" cy="36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160720" y="305604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800360" y="305604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440000" y="1976040"/>
            <a:ext cx="1440" cy="1446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079640" y="1976040"/>
            <a:ext cx="1440" cy="1446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9640" y="2700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0720" y="234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0720" y="197964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0000" y="1260360"/>
            <a:ext cx="17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19640" y="1260360"/>
            <a:ext cx="36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40360" y="1260360"/>
            <a:ext cx="36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40360" y="30607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40360" y="5219640"/>
            <a:ext cx="36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40360" y="414036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521964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0720" y="521964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0720" y="414036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00360" y="4140360"/>
            <a:ext cx="5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00360" y="4140360"/>
            <a:ext cx="5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2700360"/>
            <a:ext cx="539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79640" y="1979640"/>
            <a:ext cx="5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79640" y="3060720"/>
            <a:ext cx="5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79640" y="3060720"/>
            <a:ext cx="5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179280"/>
            <a:ext cx="3564000" cy="72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 A close-fitting garment, typically having no sleeves or collar and buttoning down the fro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 A hot drin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 A living organism which feeds on organic mat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. A mechanism for keeping a doo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. The male ruler of an independent sta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 Undergo natural development by increasing in size and changing physic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. A land or place full of wonderful thing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. A barrier at the entrance to a building or roo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9. Space that can be occupied or where something can be do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0. A hammer with a large, usually wooden hea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. An underground passag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. A reptile that typically has a long body and tail, four leg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3. Let or make (something) fall vertic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4. A pungent powder used as a spice to flavour foo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5. Having the status of a king or queen or a member of their fami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20720" y="1976040"/>
            <a:ext cx="1440" cy="366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dur="indefinite" fill="hold">
                      <p:stCondLst>
                        <p:cond delay="0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440000" y="360360"/>
            <a:ext cx="6119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0" y="179280"/>
            <a:ext cx="431964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waist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wond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ma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tu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l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 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 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ro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9280" y="1440000"/>
            <a:ext cx="882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собие для учащихся общеобразовательных учреждений «Алиса в стране чудес» (По Л. Кэрроллу), Express Publishing «Просвещение»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oxforddictionari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http://cbs-angarsk.ru/images/stories/kids/birthday/AlisaiChKUD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http://artstalker.ru/wp-content/uploads/2008/05/alice_lg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60360" y="179280"/>
            <a:ext cx="6840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Список источников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dur="indefinite" fill="hold">
                      <p:stCondLst>
                        <p:cond delay="0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79640" y="179280"/>
            <a:ext cx="75596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1079640"/>
            <a:ext cx="395892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50e"/>
                </a:solidFill>
                <a:latin typeface="Arial"/>
              </a:rPr>
              <a:t>We can show you magic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47ff"/>
                </a:solidFill>
                <a:latin typeface="Arial"/>
              </a:rPr>
              <a:t>We can make you s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Join us in a wond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Stay here for a 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3b8dc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420e"/>
                </a:solidFill>
                <a:latin typeface="Arial"/>
              </a:rPr>
              <a:t>A world full of ma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5e11a6"/>
                </a:solidFill>
                <a:latin typeface="Arial"/>
              </a:rPr>
              <a:t>So wonderful and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323dc"/>
                </a:solidFill>
                <a:latin typeface="Arial"/>
              </a:rPr>
              <a:t>A world full of ma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Is waiting here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We can travel far a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4006b"/>
                </a:solidFill>
                <a:latin typeface="Arial"/>
              </a:rPr>
              <a:t>Let us show you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ae00"/>
                </a:solidFill>
                <a:latin typeface="Arial"/>
              </a:rPr>
              <a:t>Come with us to Wond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66cc"/>
                </a:solidFill>
                <a:latin typeface="Arial"/>
              </a:rPr>
              <a:t>Let's all go there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94476b"/>
                </a:solidFill>
                <a:latin typeface="Arial"/>
              </a:rPr>
              <a:t>(Repeat Chor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66880" y="179280"/>
            <a:ext cx="6512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Let's sing a so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1797120"/>
            <a:ext cx="414036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 fill="hold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 fill="hold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79280" y="900000"/>
            <a:ext cx="6840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Who wrote  Alice' Adventures in Wonder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0360" y="1260360"/>
            <a:ext cx="270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Lewis Car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280" y="2160720"/>
            <a:ext cx="39592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What was his real na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2879640"/>
            <a:ext cx="8099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His real name was Charles Lutwidge Dodg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9280" y="3600360"/>
            <a:ext cx="5040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When and where was he bo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0360" y="4319640"/>
            <a:ext cx="8640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He was born on the 27 th of January 1832 in Daresbury, Cheshire,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5483160"/>
            <a:ext cx="648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How many children were there in his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0360" y="6119640"/>
            <a:ext cx="702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There were eleven children in hi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0000" y="179280"/>
            <a:ext cx="684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Answer the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60360" y="900000"/>
            <a:ext cx="792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What did young Charles enjoy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0360" y="1619280"/>
            <a:ext cx="86407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He enjoyed doing magic tricks, putting on puppet shows and writing poems and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0360" y="2700360"/>
            <a:ext cx="73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What was Charles' hobb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0360" y="3240000"/>
            <a:ext cx="7199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His hobby was phot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0360" y="3959280"/>
            <a:ext cx="80992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Who was Alice Lidd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0360" y="468000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She was a girl to whom Charles used to read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0360" y="5219640"/>
            <a:ext cx="6840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How did the Alice books be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0360" y="5940360"/>
            <a:ext cx="8459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4c19"/>
                </a:solidFill>
                <a:latin typeface="Arial"/>
              </a:rPr>
              <a:t>The began as stories Charles used to tell to the Liddell gir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20720" y="539640"/>
            <a:ext cx="8280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What animal did Alice follow into a different worl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60360" y="3060720"/>
            <a:ext cx="7020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ff420e"/>
                </a:solidFill>
                <a:latin typeface="Arial"/>
              </a:rPr>
              <a:t>A. a white mouse with blue e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4140360"/>
            <a:ext cx="7199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B. a white rabbit with pink e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9640" y="5219640"/>
            <a:ext cx="71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lang="ru-RU" sz="2600" spc="-1" strike="noStrike">
                <a:solidFill>
                  <a:srgbClr val="ff00ff"/>
                </a:solidFill>
                <a:latin typeface="Arial"/>
              </a:rPr>
              <a:t>C. a big elephant with white e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0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9280" y="1631880"/>
            <a:ext cx="882036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1.  puppet show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a). бегать наперегон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2. entertain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b). собираться сделать что-либ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3. be worried 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с). потерятьс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4. argue         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d). бояться кого-либо, чего-либ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5. be scared of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e). спори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6. be lost        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f). кукольный теат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7. be going to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g). развлека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8. run a race  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h). хотелось бы зна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9. I wonder    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 i). мне безразличн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10. disappear       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j). быть расстроенны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11. I don't care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k). исчеза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179280"/>
            <a:ext cx="6840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4b1f6f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Read and mat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0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9280" y="1482840"/>
            <a:ext cx="846000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1. Alice is a clever little girl who loves    …   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Arial"/>
              </a:rPr>
              <a:t>2. The white rabbit is a very nervous animal. He is always      …    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3. The duchess is a very     …     woman who shouts a l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7e0021"/>
                </a:solidFill>
                <a:latin typeface="Arial"/>
              </a:rPr>
              <a:t>4. The March Hare is mad and very     …      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</a:rPr>
              <a:t>5. The Hatter is just     …     as the March H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6. The King of Hearts is a     …    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6b0094"/>
                </a:solidFill>
                <a:latin typeface="Arial"/>
              </a:rPr>
              <a:t>7. The Queen of Hearts is very bossy and    …    all th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7e0021"/>
                </a:solidFill>
                <a:latin typeface="Arial"/>
              </a:rPr>
              <a:t>8. The Cheshire cat is friendly and     …   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9. The Mock Turtle is a very    …    an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79640" y="179280"/>
            <a:ext cx="7019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Fill in the ga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0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179280"/>
            <a:ext cx="899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804c19"/>
                </a:solidFill>
                <a:latin typeface="Arial"/>
              </a:rPr>
              <a:t>Read the text and fill i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879640"/>
            <a:ext cx="8820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The Gryphon took Alice to a large 1)     ....    . The King and Queen  were there, with a 2)   …   of people around them. The White Rabbit was 3)  …  the King. He had a 4)   …   in one hand, and some paper in the other. There was a 5)  …   in the middle of the courtroom, with a large plate of tarts on it. «They look 6)  …  ,» thought Alice. The King was the judge, and the 7)  …  were animals and bi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973080"/>
            <a:ext cx="882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23dc"/>
                </a:solidFill>
                <a:latin typeface="Arial"/>
              </a:rPr>
              <a:t>сrow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deliciou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5e11a6"/>
                </a:solidFill>
                <a:latin typeface="Arial"/>
              </a:rPr>
              <a:t>next t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23ff23"/>
                </a:solidFill>
                <a:latin typeface="Arial"/>
              </a:rPr>
              <a:t>сourtroo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>
                <a:solidFill>
                  <a:srgbClr val="7e0021"/>
                </a:solidFill>
                <a:latin typeface="Arial"/>
              </a:rPr>
              <a:t>trumpe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tabl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5c8526"/>
                </a:solidFill>
                <a:latin typeface="Arial"/>
              </a:rPr>
              <a:t> j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19640" y="2700360"/>
            <a:ext cx="2253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0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60720" y="900000"/>
            <a:ext cx="648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toliinobored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ergwitnessre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nomeshores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pomjssglovestip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broocoogloowaistco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reqiuqueenlom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voimoemroyalp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 pootytrialjood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. tumowellwh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. toutyboposensiblesh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9280" y="0"/>
            <a:ext cx="59403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47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b84700"/>
                </a:solidFill>
                <a:latin typeface="Arial"/>
              </a:rPr>
              <a:t>Find the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0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ther</dc:creator>
  <dc:description/>
  <dc:language>en-US</dc:language>
  <cp:lastModifiedBy/>
  <dcterms:modified xsi:type="dcterms:W3CDTF">2012-04-21T10:11:58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