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4C1-396E-44D1-83CB-B3956409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9C3-E7AA-425F-BE70-EEB64E0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1D7-58A3-4032-8EA1-C90F4442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C7B-8A24-429F-A26C-ECFCF2E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7F9-B1D8-4C68-92E4-94372BA8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78F-18F8-4C01-8D02-09CE3F52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910-3804-4E41-A2D6-7CFC5F56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BC9-32F5-4FA2-8350-A1D5EF31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9F4-5EB5-423C-A7F7-405A1132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B60-7116-480A-8F8C-D58B4AE0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FF0-523C-4AA9-99D6-A2288F4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0CE-D213-49C2-AF96-64B44B7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72DC-B3C7-49C7-B031-2716D809A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44/269/44269678_e5b5aa21ea5d.jpg" TargetMode="External"/><Relationship Id="rId2" Type="http://schemas.openxmlformats.org/officeDocument/2006/relationships/hyperlink" Target="http://cs10265.vkontakte.ru/u139540188/-6/x_e4550444.jpg" TargetMode="External"/><Relationship Id="rId3" Type="http://schemas.openxmlformats.org/officeDocument/2006/relationships/hyperlink" Target="http://img-fotki.yandex.ru/get/4911/mr-serg-bask.2b9/0_50081_7775fea8_XL" TargetMode="External"/><Relationship Id="rId4" Type="http://schemas.openxmlformats.org/officeDocument/2006/relationships/hyperlink" Target="http://img-fotki.yandex.ru/get/4515/mr-serg-bask.6e9/0_5e99b_ceb3da53_X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002f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0"/>
            <a:ext cx="84247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ffff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281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-тренажер</a:t>
            </a:r>
            <a:endParaRPr b="0" lang="en-US" sz="1800" spc="1" strike="noStrike">
              <a:ln w="25560">
                <a:solidFill>
                  <a:srgbClr val="00ffff"/>
                </a:solidFill>
                <a:prstDash val="sysDot"/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281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08280"/>
            <a:ext cx="91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собие предназначено для учащихся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щеобразовательных школ и школ с углубле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глий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гра-тренажер поможет пополнить лексический запас и лучше усвоить правописание английских слов, тренируя зрительную память младших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собие может успешно использоваться на уроке и вн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гра-тренажер предполагает выбор правильного варианта ответа с помощью щелчка компьютерной мы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39120" y="5392800"/>
            <a:ext cx="520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собие состави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 правом преподавания английск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шкова Еле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БОУ СОШ №8 г.Пуш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95640" y="1557360"/>
            <a:ext cx="496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Animals"</a:t>
            </a:r>
            <a:endParaRPr b="1" lang="en-US" sz="1800" spc="1" strike="noStrike">
              <a:ln w="255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3c3c5b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21447600">
            <a:off x="684360" y="259920"/>
            <a:ext cx="7562880" cy="574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420042"/>
                    </a:gs>
                  </a:gsLst>
                  <a:lin ang="555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0" lang="en-US" sz="1800" spc="1" strike="noStrike">
              <a:ln w="381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420042"/>
                  </a:gs>
                </a:gsLst>
                <a:lin ang="555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.liveinternet.ru/images/attach/c/0/44/269/44269678_e5b5aa21ea5d.jpg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</a:rPr>
              <a:t> слайд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6440" y="692280"/>
            <a:ext cx="795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s10265.vkontakte.ru/u139540188/-6/x_e4550444.jp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слайд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1680" y="1125360"/>
            <a:ext cx="881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g-fotki.yandex.ru/get/4911/mr-serg-bask.2b9/0_50081_7775fea8_X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Слайд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5720" y="1773360"/>
            <a:ext cx="88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4515/mr-serg-bask.6e9/0_5e99b_ceb3da53_X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Слайд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57720"/>
            <a:ext cx="1199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yeniresim.com/data/media/167/www.yeniresim.com_-_Hayvan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mleri_-_Zrafa_2.jpg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слайд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73408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i.smartphone.ua/img/wp/4pg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слайд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21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fotogaleri.shiftdelete.net/d/11340-1/09.jpg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слайд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3933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61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skuky.net/wp-content/uploads/2009/10/did_you_07.jpg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слайд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201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08360" y="5516640"/>
            <a:ext cx="1417680" cy="10810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360" y="5013360"/>
            <a:ext cx="1274760" cy="10810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1916280"/>
            <a:ext cx="1346400" cy="1079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cap="rnd" w="63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480000" cy="5472000"/>
          </a:xfrm>
          <a:custGeom>
            <a:avLst/>
            <a:gdLst>
              <a:gd name="textAreaLeft" fmla="*/ 1479240 w 6480000"/>
              <a:gd name="textAreaRight" fmla="*/ 5000760 w 6480000"/>
              <a:gd name="textAreaTop" fmla="*/ 1249200 h 5472000"/>
              <a:gd name="textAreaBottom" fmla="*/ 422280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82800"/>
              </a:gs>
              <a:gs pos="50000">
                <a:srgbClr val="ffff00"/>
              </a:gs>
              <a:gs pos="100000">
                <a:srgbClr val="282800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1a423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2565360"/>
            <a:ext cx="1563840" cy="1152720"/>
          </a:xfrm>
          <a:prstGeom prst="octagon">
            <a:avLst>
              <a:gd name="adj" fmla="val 29287"/>
            </a:avLst>
          </a:prstGeom>
          <a:solidFill>
            <a:srgbClr val="5f5f5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013360"/>
            <a:ext cx="1490400" cy="1152360"/>
          </a:xfrm>
          <a:prstGeom prst="octagon">
            <a:avLst>
              <a:gd name="adj" fmla="val 29287"/>
            </a:avLst>
          </a:prstGeom>
          <a:solidFill>
            <a:srgbClr val="5f5f5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76280"/>
            <a:ext cx="1419480" cy="1079640"/>
          </a:xfrm>
          <a:prstGeom prst="octagon">
            <a:avLst>
              <a:gd name="adj" fmla="val 29287"/>
            </a:avLst>
          </a:prstGeom>
          <a:solidFill>
            <a:srgbClr val="5f5f5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189000"/>
            <a:ext cx="6804000" cy="6408720"/>
          </a:xfrm>
          <a:custGeom>
            <a:avLst/>
            <a:gdLst>
              <a:gd name="textAreaLeft" fmla="*/ 1553040 w 6804000"/>
              <a:gd name="textAreaRight" fmla="*/ 5250960 w 6804000"/>
              <a:gd name="textAreaTop" fmla="*/ 1463040 h 6408720"/>
              <a:gd name="textAreaBottom" fmla="*/ 4945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1e1e1e"/>
              </a:gs>
              <a:gs pos="50000">
                <a:srgbClr val="c0c0c0"/>
              </a:gs>
              <a:gs pos="100000">
                <a:srgbClr val="1e1e1e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40244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9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8e55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093080" y="4437000"/>
            <a:ext cx="1584360" cy="122400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cap="rnd" w="63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Arial"/>
              </a:rPr>
              <a:t>w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5516640"/>
            <a:ext cx="1513080" cy="115236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cap="rnd" w="63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Arial"/>
              </a:rPr>
              <a:t>wu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421000"/>
            <a:ext cx="1582920" cy="122400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cap="rnd" w="63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Arial"/>
              </a:rPr>
              <a:t>woo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33360"/>
            <a:ext cx="6804000" cy="5545080"/>
          </a:xfrm>
          <a:custGeom>
            <a:avLst/>
            <a:gdLst>
              <a:gd name="textAreaLeft" fmla="*/ 1553040 w 6804000"/>
              <a:gd name="textAreaRight" fmla="*/ 5250960 w 6804000"/>
              <a:gd name="textAreaTop" fmla="*/ 1265760 h 5545080"/>
              <a:gd name="textAreaBottom" fmla="*/ 4279320 h 554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e2e2e"/>
              </a:gs>
              <a:gs pos="50000">
                <a:srgbClr val="808080"/>
              </a:gs>
              <a:gs pos="100000">
                <a:srgbClr val="2e2e2e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4824720" cy="361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4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549360"/>
            <a:ext cx="1439640" cy="1152360"/>
          </a:xfrm>
          <a:prstGeom prst="octagon">
            <a:avLst>
              <a:gd name="adj" fmla="val 29287"/>
            </a:avLst>
          </a:prstGeom>
          <a:solidFill>
            <a:srgbClr val="ff6600"/>
          </a:solidFill>
          <a:ln cap="rnd" w="63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205000"/>
            <a:ext cx="1368360" cy="1224000"/>
          </a:xfrm>
          <a:prstGeom prst="octagon">
            <a:avLst>
              <a:gd name="adj" fmla="val 29287"/>
            </a:avLst>
          </a:prstGeom>
          <a:solidFill>
            <a:srgbClr val="ff6600"/>
          </a:solidFill>
          <a:ln cap="rnd" w="63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x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33360"/>
            <a:ext cx="1512720" cy="1152720"/>
          </a:xfrm>
          <a:prstGeom prst="octagon">
            <a:avLst>
              <a:gd name="adj" fmla="val 29287"/>
            </a:avLst>
          </a:prstGeom>
          <a:solidFill>
            <a:srgbClr val="ff6600"/>
          </a:solidFill>
          <a:ln cap="rnd" w="63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1125360"/>
            <a:ext cx="7164360" cy="5732640"/>
          </a:xfrm>
          <a:custGeom>
            <a:avLst/>
            <a:gdLst>
              <a:gd name="textAreaLeft" fmla="*/ 1635480 w 7164360"/>
              <a:gd name="textAreaRight" fmla="*/ 5528880 w 7164360"/>
              <a:gd name="textAreaTop" fmla="*/ 1308600 h 5732640"/>
              <a:gd name="textAreaBottom" fmla="*/ 442404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81808"/>
              </a:gs>
              <a:gs pos="50000">
                <a:srgbClr val="ff9933"/>
              </a:gs>
              <a:gs pos="100000">
                <a:srgbClr val="281808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474012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4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5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236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588000" y="404640"/>
            <a:ext cx="2159280" cy="180036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irr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60280"/>
            <a:ext cx="2158920" cy="18734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ir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7640" y="2637000"/>
            <a:ext cx="2376360" cy="18730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iraf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916280"/>
            <a:ext cx="6337080" cy="4941720"/>
          </a:xfrm>
          <a:custGeom>
            <a:avLst/>
            <a:gdLst>
              <a:gd name="textAreaLeft" fmla="*/ 1446480 w 6337080"/>
              <a:gd name="textAreaRight" fmla="*/ 4890600 w 6337080"/>
              <a:gd name="textAreaTop" fmla="*/ 1127880 h 4941720"/>
              <a:gd name="textAreaBottom" fmla="*/ 3813840 h 494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84228"/>
              </a:gs>
              <a:gs pos="50000">
                <a:srgbClr val="99ff99"/>
              </a:gs>
              <a:gs pos="100000">
                <a:srgbClr val="284228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7" dur="10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8" dur="10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5b5b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333360"/>
            <a:ext cx="2592360" cy="2232000"/>
          </a:xfrm>
          <a:prstGeom prst="octagon">
            <a:avLst>
              <a:gd name="adj" fmla="val 29287"/>
            </a:avLst>
          </a:prstGeom>
          <a:solidFill>
            <a:srgbClr val="666699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f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933720"/>
            <a:ext cx="2665440" cy="2089080"/>
          </a:xfrm>
          <a:prstGeom prst="octagon">
            <a:avLst>
              <a:gd name="adj" fmla="val 29287"/>
            </a:avLst>
          </a:prstGeom>
          <a:solidFill>
            <a:srgbClr val="666699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ph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292640"/>
            <a:ext cx="2737080" cy="2305080"/>
          </a:xfrm>
          <a:prstGeom prst="octagon">
            <a:avLst>
              <a:gd name="adj" fmla="val 29287"/>
            </a:avLst>
          </a:prstGeom>
          <a:solidFill>
            <a:srgbClr val="666699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0"/>
            <a:ext cx="6372360" cy="4365720"/>
          </a:xfrm>
          <a:custGeom>
            <a:avLst/>
            <a:gdLst>
              <a:gd name="textAreaLeft" fmla="*/ 1454760 w 6372360"/>
              <a:gd name="textAreaRight" fmla="*/ 4917600 w 6372360"/>
              <a:gd name="textAreaTop" fmla="*/ 996480 h 4365720"/>
              <a:gd name="textAreaBottom" fmla="*/ 3369240 h 436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53d42"/>
              </a:gs>
              <a:gs pos="50000">
                <a:srgbClr val="ccecff"/>
              </a:gs>
              <a:gs pos="100000">
                <a:srgbClr val="353d42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268128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2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3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43280" y="5229360"/>
            <a:ext cx="1584360" cy="122400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cap="rnd" w="63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0000" y="4941720"/>
            <a:ext cx="1512720" cy="115272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cap="rnd" w="63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08720" y="2421000"/>
            <a:ext cx="1582920" cy="122400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cap="rnd" w="633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04000" cy="5472000"/>
          </a:xfrm>
          <a:custGeom>
            <a:avLst/>
            <a:gdLst>
              <a:gd name="textAreaLeft" fmla="*/ 1553040 w 6804000"/>
              <a:gd name="textAreaRight" fmla="*/ 5250960 w 6804000"/>
              <a:gd name="textAreaTop" fmla="*/ 1249200 h 5472000"/>
              <a:gd name="textAreaBottom" fmla="*/ 422280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2351a"/>
              </a:gs>
              <a:gs pos="50000">
                <a:srgbClr val="ffcc66"/>
              </a:gs>
              <a:gs pos="100000">
                <a:srgbClr val="42351a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3888000" cy="3110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6" dur="2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7" dur="2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100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0" dur="100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1" dur="100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5b002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916280"/>
            <a:ext cx="2881440" cy="158400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cap="rnd" w="63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coda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869000"/>
            <a:ext cx="2881440" cy="172872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cap="rnd" w="63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cod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189000"/>
            <a:ext cx="2952720" cy="165564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cap="rnd" w="63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cod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1628640"/>
            <a:ext cx="6372360" cy="5229360"/>
          </a:xfrm>
          <a:custGeom>
            <a:avLst/>
            <a:gdLst>
              <a:gd name="textAreaLeft" fmla="*/ 1454760 w 6372360"/>
              <a:gd name="textAreaRight" fmla="*/ 4917600 w 6372360"/>
              <a:gd name="textAreaTop" fmla="*/ 1193760 h 5229360"/>
              <a:gd name="textAreaBottom" fmla="*/ 4035600 h 522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54228"/>
              </a:gs>
              <a:gs pos="50000">
                <a:srgbClr val="ccff99"/>
              </a:gs>
              <a:gs pos="100000">
                <a:srgbClr val="354228"/>
              </a:gs>
            </a:gsLst>
            <a:lin ang="5400000"/>
          </a:gra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80000" y="2637000"/>
            <a:ext cx="4681440" cy="3035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1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04:12:47Z</dcterms:created>
  <dc:creator>Лена</dc:creator>
  <dc:description/>
  <dc:language>en-US</dc:language>
  <cp:lastModifiedBy>Лена</cp:lastModifiedBy>
  <dcterms:modified xsi:type="dcterms:W3CDTF">2012-07-12T09:35:00Z</dcterms:modified>
  <cp:revision>11</cp:revision>
  <dc:subject/>
  <dc:title>Слайд 1</dc:title>
</cp:coreProperties>
</file>