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EBE2-BA42-40CF-AFA3-B6EB3E2B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9DFD-572D-4E6A-85D4-8AA30334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1BFA-FD23-43D7-85C6-5F8DEF29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7C7-948C-4FE1-B250-F42390E6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8C8A-329F-4FA5-ABC4-676014DA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B995-0D07-4EF7-BB34-BA518C8F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E937-C4D0-48FB-A7C6-718DE54F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42A1-F394-4B37-A9A0-303B8994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0B07-CEE4-4C12-B2DB-6691603B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4F2A-4547-4D32-932E-5F08B32C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D55E-074F-4F61-BBC9-809DD751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267A-AC59-4BAC-B673-F7F05D29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DA01-409A-410C-8CE8-A9B357462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otokoshki.ru/6/koshki3928.jpg" TargetMode="External"/><Relationship Id="rId2" Type="http://schemas.openxmlformats.org/officeDocument/2006/relationships/hyperlink" Target="http://www.fotokoshki.ru/6/koshki3928.jpg" TargetMode="External"/><Relationship Id="rId3" Type="http://schemas.openxmlformats.org/officeDocument/2006/relationships/hyperlink" Target="http://photos1.fotosearch.com/bthumb/CSP/CSP350/k3508780.jpg" TargetMode="External"/><Relationship Id="rId4" Type="http://schemas.openxmlformats.org/officeDocument/2006/relationships/hyperlink" Target="http://photos1.fotosearch.com/bthumb/CSP/CSP350/k3508780.jpg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189000"/>
            <a:ext cx="6481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ренажер</a:t>
            </a:r>
            <a:endParaRPr b="1" lang="en-US" sz="1800" spc="1" strike="noStrike">
              <a:ln w="41400">
                <a:solidFill>
                  <a:srgbClr val="00ff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891960" y="1700280"/>
            <a:ext cx="525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Учу грамматику лег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и с удовольствие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4172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Пособие предназначено для учащихся 2 кла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общеобразовательных школ и школ с углубленным изуч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английского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Пособие может успешно использоваться на уроке и вне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Пособие предполагает выбор правильного варианта ответа с помощью щелчка компьютерной мы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39120" y="5118120"/>
            <a:ext cx="520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собие составил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 правом преподавания английского язы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шкова Елена Владими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БОУ СОШ №8 г.Пушк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755e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03280" y="333360"/>
            <a:ext cx="5616720" cy="2519280"/>
          </a:xfrm>
          <a:prstGeom prst="cloudCallout">
            <a:avLst>
              <a:gd name="adj1" fmla="val -58111"/>
              <a:gd name="adj2" fmla="val 84342"/>
            </a:avLst>
          </a:prstGeom>
          <a:solidFill>
            <a:srgbClr val="ff00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1125360"/>
            <a:ext cx="61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girl has got one do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many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56000" y="3500280"/>
            <a:ext cx="1417680" cy="1081080"/>
          </a:xfrm>
          <a:prstGeom prst="octagon">
            <a:avLst>
              <a:gd name="adj" fmla="val 29287"/>
            </a:avLst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cc"/>
                </a:solidFill>
                <a:latin typeface="Arial"/>
              </a:rPr>
              <a:t>pup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4724280"/>
            <a:ext cx="1274760" cy="1081080"/>
          </a:xfrm>
          <a:prstGeom prst="octagon">
            <a:avLst>
              <a:gd name="adj" fmla="val 29287"/>
            </a:avLst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cc"/>
                </a:solidFill>
                <a:latin typeface="Arial"/>
              </a:rPr>
              <a:t>pup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236000" y="3500280"/>
            <a:ext cx="1346040" cy="1079640"/>
          </a:xfrm>
          <a:prstGeom prst="octagon">
            <a:avLst>
              <a:gd name="adj" fmla="val 29287"/>
            </a:avLst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cc"/>
                </a:solidFill>
                <a:latin typeface="Arial"/>
              </a:rPr>
              <a:t>a pup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3860640"/>
            <a:ext cx="2952720" cy="2654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8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1a423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flipH="1">
            <a:off x="395280" y="476280"/>
            <a:ext cx="7812000" cy="1944720"/>
          </a:xfrm>
          <a:prstGeom prst="cloudCallout">
            <a:avLst>
              <a:gd name="adj1" fmla="val -42888"/>
              <a:gd name="adj2" fmla="val 91791"/>
            </a:avLst>
          </a:prstGeom>
          <a:solidFill>
            <a:srgbClr val="ff66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y cat has got thre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2276640"/>
            <a:ext cx="1563480" cy="1152360"/>
          </a:xfrm>
          <a:prstGeom prst="octagon">
            <a:avLst>
              <a:gd name="adj" fmla="val 29287"/>
            </a:avLst>
          </a:prstGeom>
          <a:solidFill>
            <a:srgbClr val="800000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a k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4508640"/>
            <a:ext cx="1490760" cy="1152360"/>
          </a:xfrm>
          <a:prstGeom prst="octagon">
            <a:avLst>
              <a:gd name="adj" fmla="val 29287"/>
            </a:avLst>
          </a:prstGeom>
          <a:solidFill>
            <a:srgbClr val="800000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k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3357720"/>
            <a:ext cx="1419120" cy="1079280"/>
          </a:xfrm>
          <a:prstGeom prst="octagon">
            <a:avLst>
              <a:gd name="adj" fmla="val 29287"/>
            </a:avLst>
          </a:prstGeom>
          <a:solidFill>
            <a:srgbClr val="800000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kitt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08360" y="3357720"/>
            <a:ext cx="5122800" cy="3176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9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8e55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68360" y="404640"/>
            <a:ext cx="6551640" cy="1944720"/>
          </a:xfrm>
          <a:prstGeom prst="cloudCallout">
            <a:avLst>
              <a:gd name="adj1" fmla="val -68777"/>
              <a:gd name="adj2" fmla="val 72939"/>
            </a:avLst>
          </a:prstGeom>
          <a:solidFill>
            <a:srgbClr val="99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Does she like to play with the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48360" y="3357720"/>
            <a:ext cx="1584360" cy="1223640"/>
          </a:xfrm>
          <a:prstGeom prst="octagon">
            <a:avLst>
              <a:gd name="adj" fmla="val 29287"/>
            </a:avLst>
          </a:prstGeom>
          <a:solidFill>
            <a:srgbClr val="00ccff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o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5229360"/>
            <a:ext cx="1513080" cy="1152360"/>
          </a:xfrm>
          <a:prstGeom prst="octagon">
            <a:avLst>
              <a:gd name="adj" fmla="val 29287"/>
            </a:avLst>
          </a:prstGeom>
          <a:solidFill>
            <a:srgbClr val="00ccff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 t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36000" y="2708280"/>
            <a:ext cx="1582560" cy="1224000"/>
          </a:xfrm>
          <a:prstGeom prst="octagon">
            <a:avLst>
              <a:gd name="adj" fmla="val 29287"/>
            </a:avLst>
          </a:prstGeom>
          <a:solidFill>
            <a:srgbClr val="00ccff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her to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4248000" cy="3943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7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8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9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0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100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100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100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5b123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87280" y="260280"/>
            <a:ext cx="7129800" cy="2305080"/>
          </a:xfrm>
          <a:prstGeom prst="cloudCallout">
            <a:avLst>
              <a:gd name="adj1" fmla="val -33523"/>
              <a:gd name="adj2" fmla="val 84986"/>
            </a:avLst>
          </a:prstGeom>
          <a:solidFill>
            <a:srgbClr val="00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he…like to play with the b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3213000"/>
            <a:ext cx="1439640" cy="115272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d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8000" y="4869000"/>
            <a:ext cx="1368720" cy="122400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are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2997360"/>
            <a:ext cx="1513080" cy="115236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doe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64000" y="2997360"/>
            <a:ext cx="3380040" cy="3379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5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6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4" dur="50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5" dur="50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57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0920" y="3284640"/>
            <a:ext cx="2603520" cy="3305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050920" y="333360"/>
            <a:ext cx="5832720" cy="2590920"/>
          </a:xfrm>
          <a:prstGeom prst="cloudCallout">
            <a:avLst>
              <a:gd name="adj1" fmla="val -74199"/>
              <a:gd name="adj2" fmla="val 56615"/>
            </a:avLst>
          </a:prstGeom>
          <a:solidFill>
            <a:srgbClr val="ffcc00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My sister…to have a do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3573360"/>
            <a:ext cx="1439640" cy="12956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08720" y="4941720"/>
            <a:ext cx="1727280" cy="136872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o w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64360" y="3068640"/>
            <a:ext cx="1440000" cy="12240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6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6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6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6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3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100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37" dur="100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8" dur="100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4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4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5b5b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 rot="21162600">
            <a:off x="33480" y="291960"/>
            <a:ext cx="6300720" cy="2881440"/>
          </a:xfrm>
          <a:prstGeom prst="cloudCallout">
            <a:avLst>
              <a:gd name="adj1" fmla="val 63888"/>
              <a:gd name="adj2" fmla="val 49685"/>
            </a:avLst>
          </a:prstGeom>
          <a:solidFill>
            <a:srgbClr val="ff5050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…he want to pl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3933720"/>
            <a:ext cx="1417320" cy="1079640"/>
          </a:xfrm>
          <a:prstGeom prst="octagon">
            <a:avLst>
              <a:gd name="adj" fmla="val 29287"/>
            </a:avLst>
          </a:prstGeom>
          <a:solidFill>
            <a:srgbClr val="666699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40000" y="5157720"/>
            <a:ext cx="1370160" cy="1152720"/>
          </a:xfrm>
          <a:prstGeom prst="octagon">
            <a:avLst>
              <a:gd name="adj" fmla="val 29287"/>
            </a:avLst>
          </a:prstGeom>
          <a:solidFill>
            <a:srgbClr val="666699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35280" y="3645000"/>
            <a:ext cx="1368360" cy="1224000"/>
          </a:xfrm>
          <a:prstGeom prst="octagon">
            <a:avLst>
              <a:gd name="adj" fmla="val 29287"/>
            </a:avLst>
          </a:prstGeom>
          <a:solidFill>
            <a:srgbClr val="666699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724360" y="2924280"/>
            <a:ext cx="3178440" cy="3617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1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2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3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9640" y="115920"/>
            <a:ext cx="7272360" cy="37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hank you!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9933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5084640"/>
            <a:ext cx="7702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www.fotokoshki.ru/6/koshki3928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-fotki.yandex.ru/get/5300/ladyo2004.34/0_4c56c_8ed57fe9_L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photos1.fotosearch.com/bthumb/CSP/CSP350/k350878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tatic.diary.ru/userdir/2/8/7/8/2878757/7239630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media.nn.ru//data/ufiles/4/54/05/540512.102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stihi.ru/pics/2008/11/16/150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3T04:12:47Z</dcterms:created>
  <dc:creator>Лена</dc:creator>
  <dc:description/>
  <dc:language>en-US</dc:language>
  <cp:lastModifiedBy>Лена</cp:lastModifiedBy>
  <dcterms:modified xsi:type="dcterms:W3CDTF">2012-07-09T11:44:23Z</dcterms:modified>
  <cp:revision>8</cp:revision>
  <dc:subject/>
  <dc:title>Слайд 1</dc:title>
</cp:coreProperties>
</file>