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5DD-3FB8-42FA-84CD-2C7F9104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D7B-0F42-4A09-8EFF-66134DC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A21-9513-4CD4-9568-D8BE45D9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080-B3EB-40E3-A09E-E1CEDBA4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219B-E994-4AAD-87BA-1D58AB98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A6EA-6C60-4909-AD57-4C254D88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0534-3B32-43D6-BCFD-798C8660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624-0570-465E-84C4-CC09C1F6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B14-1BC4-432B-BF18-17F5B033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BE7-D528-4CF1-9BB2-D203FACC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ECB-1F64-417F-9CC0-17B285A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F92-4EF8-4137-9937-FB57206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CEA4-EDF6-4677-9095-74723A78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D602-AE36-42FD-A716-ED3AA89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8C6E-D641-4AF8-9C5D-1AD7A57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42AE-C617-4D91-9682-A7A88A0C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B17D-3CCB-4D64-ABFF-80AC2A7F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AB0C-2FD0-4691-B042-629DBB13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1EB1-E082-4A08-B734-9B1E33DB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C260-B6D5-4A8F-B557-6F52C6C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3308-4BB2-485D-966F-7A3327B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9C4C-A04C-43FF-8D60-47A4333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2FF-E34A-421D-BDD7-2DF10B5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A548-ADFE-453A-B4C8-2482AB9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ED79-E081-4464-B6BA-87D02B5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8942-3155-41AF-92F3-2FB9018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96C1-DB79-4CB3-AC14-6872D95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8C2A-3CAA-4B69-BB81-D00552F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84A8-448B-43DB-BAFC-E003F5C3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154B-6D6E-4026-8ABC-29973DF9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2DE3-A060-4054-A6A5-DC80955D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EE22-57FF-45BD-832D-AD5840BD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F636-1BF8-461A-ADA4-F2CB97C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D3A-716E-46EA-BED8-F1897AB2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4355-AD01-4FEF-A4C0-C02517A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D9BD-D6B0-466E-93B6-73F3309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37DC-190B-4400-A3BE-2C83F48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5F92-7648-48A8-B603-3DC4D1D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95A8-2D45-4AAF-AECD-C6D99268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2AA0-21DD-4A79-B2C6-7F32F1B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A795-7B19-4AE5-9DBA-F4F10A1C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EDFD-A7D7-4625-8054-0513DE6D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379E-5D49-4E9D-91EB-F7CE2FBA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CB04-60FB-4E60-B6DF-B1835643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1F9-D709-4525-B341-5836AAF1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C424-82E6-4ADF-A28C-C659CB80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DD05-A842-4B18-9EB4-4BDD0E17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CACD0-7134-41F8-AE57-507B41D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FBAB-DDE1-4088-A723-9279606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4AB4-45E6-4F0C-A30F-286DB77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0262-864E-4588-9657-E7F6579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364A-5E93-429D-A1BB-F2D0625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22818-8754-476B-AAB7-852A2263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6EE7-B152-4B73-82B7-CFE8FFD1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EC4A-127B-43FC-A54C-FC383A1D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527-9CEE-461D-BA40-E64F120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A7BE-9E3E-4235-BD93-BE2AC415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CD4-C307-448C-A8C2-629CD8B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425-B22B-4B64-ABCF-6395D962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7B0-42D9-4B31-980E-D1E80B55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94EA-689E-4FF2-A95E-930FA6DE0E9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57A-C0E2-4745-A591-6C13D578DB3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8A46-BC18-44EB-A342-6EB08F2B78E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43AD-82E1-4B19-B897-C516D18DA5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5E22-6E3C-4CA2-832F-CEF26BEE25C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785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love you more than applesauce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3" descr="C:\Users\ADMIN\Pictures\i-love-you-more-than.jpg"/>
          <p:cNvPicPr/>
          <p:nvPr/>
        </p:nvPicPr>
        <p:blipFill>
          <a:blip r:embed="rId1"/>
          <a:srcRect l="0" t="0" r="47893" b="48086"/>
          <a:stretch/>
        </p:blipFill>
        <p:spPr>
          <a:xfrm>
            <a:off x="2352600" y="1341360"/>
            <a:ext cx="2451240" cy="265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ADMIN\Pictures\i-love-you-more-than.jpg"/>
          <p:cNvPicPr/>
          <p:nvPr/>
        </p:nvPicPr>
        <p:blipFill>
          <a:blip r:embed="rId2"/>
          <a:srcRect l="50011" t="1817" r="16208" b="58589"/>
          <a:stretch/>
        </p:blipFill>
        <p:spPr>
          <a:xfrm>
            <a:off x="539640" y="1177920"/>
            <a:ext cx="1679760" cy="21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3"/>
          <a:srcRect l="3761" t="55325" r="153" b="8617"/>
          <a:stretch/>
        </p:blipFill>
        <p:spPr>
          <a:xfrm>
            <a:off x="6253200" y="4103640"/>
            <a:ext cx="2455920" cy="2338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4"/>
          <a:srcRect l="0" t="0" r="0" b="4831"/>
          <a:stretch/>
        </p:blipFill>
        <p:spPr>
          <a:xfrm>
            <a:off x="5003640" y="1717560"/>
            <a:ext cx="2799000" cy="2583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/>
          <p:cNvPicPr/>
          <p:nvPr/>
        </p:nvPicPr>
        <p:blipFill>
          <a:blip r:embed="rId5"/>
          <a:stretch/>
        </p:blipFill>
        <p:spPr>
          <a:xfrm>
            <a:off x="5003640" y="1711440"/>
            <a:ext cx="506520" cy="2000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6"/>
          <a:stretch/>
        </p:blipFill>
        <p:spPr>
          <a:xfrm>
            <a:off x="7300800" y="3753000"/>
            <a:ext cx="1408320" cy="403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7461360" y="3770280"/>
            <a:ext cx="78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c3e"/>
                </a:solidFill>
                <a:latin typeface="Verdana"/>
              </a:rPr>
              <a:t>ta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рямоугольник 10"/>
          <p:cNvSpPr/>
          <p:nvPr/>
        </p:nvSpPr>
        <p:spPr>
          <a:xfrm>
            <a:off x="3357720" y="3643200"/>
            <a:ext cx="18396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love you more than lemonade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7332" t="-4014" r="6293" b="4019"/>
          <a:stretch/>
        </p:blipFill>
        <p:spPr>
          <a:xfrm>
            <a:off x="690480" y="1552680"/>
            <a:ext cx="2446560" cy="3881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ADMIN\Pictures\i-love-you-more-than.jpg"/>
          <p:cNvPicPr/>
          <p:nvPr/>
        </p:nvPicPr>
        <p:blipFill>
          <a:blip r:embed="rId2"/>
          <a:srcRect l="0" t="52507" r="52911" b="10814"/>
          <a:stretch/>
        </p:blipFill>
        <p:spPr>
          <a:xfrm>
            <a:off x="3513240" y="1560600"/>
            <a:ext cx="2276280" cy="1933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rcRect l="0" t="0" r="15552" b="15231"/>
          <a:stretch/>
        </p:blipFill>
        <p:spPr>
          <a:xfrm>
            <a:off x="3492360" y="3656160"/>
            <a:ext cx="2276640" cy="2284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4"/>
          <a:srcRect l="7603" t="0" r="7685" b="0"/>
          <a:stretch/>
        </p:blipFill>
        <p:spPr>
          <a:xfrm>
            <a:off x="6129360" y="1819440"/>
            <a:ext cx="2259000" cy="35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460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love you more than marzipan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 I love you THE MOST!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rcRect l="0" t="0" r="0" b="4408"/>
          <a:stretch/>
        </p:blipFill>
        <p:spPr>
          <a:xfrm>
            <a:off x="595440" y="1638360"/>
            <a:ext cx="2709720" cy="1733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19640" y="2408400"/>
            <a:ext cx="1938240" cy="2292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4919760" y="2462040"/>
            <a:ext cx="1517400" cy="2176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6588000" y="1471680"/>
            <a:ext cx="1944720" cy="311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20:32:41Z</dcterms:created>
  <dc:creator>ADMIN</dc:creator>
  <dc:description/>
  <dc:language>en-US</dc:language>
  <cp:lastModifiedBy>ADMIN</cp:lastModifiedBy>
  <dcterms:modified xsi:type="dcterms:W3CDTF">2014-02-04T10:40:04Z</dcterms:modified>
  <cp:revision>31</cp:revision>
  <dc:subject/>
  <dc:title>Презентация PowerPoint</dc:title>
</cp:coreProperties>
</file>