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4E3-22CC-4679-B5E4-BB567519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DE0-252B-4AB7-9B21-382A7142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952-EF40-440A-BEE9-2328D406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749-9337-4EB3-92D9-7843BE3A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D995-5686-4767-A7C5-B2E0B3E5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482F-19B9-4AD8-B458-136F8F0C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34BB-0343-428F-8DC7-1B2DF2B6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0BEC-3593-4EDE-B8D8-A054A971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E6E0-0CBE-4275-8F50-3D5DFB49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32FE-0C15-4C68-8993-54A126D3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52FF-6395-439E-818E-B338244F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1CC-97B4-4C0D-A391-2FD0455E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04C6-5C1E-4773-B5F5-0AED0FBF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4D25-89BE-4F80-BADE-638D9EF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878F-797A-4B09-AA15-FCE72200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E75F-FC4F-424F-AC5C-55CC5CDE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7EA2-07ED-402C-B497-6D968EF5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653-5521-4771-9A64-B62C5BB1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6DB-E79B-4C90-AD6B-77394350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DB5-A563-4EEF-9F24-458250A2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48A-1CAC-4B29-814F-6DA28A96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886-DD32-46CC-A68E-C8F900F8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309-D74A-4F47-919F-47654085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591-4DB7-4832-A192-E8936ED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5C29-B408-4041-94A5-EE10C02E07D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4C52-9780-490F-BB93-BA172BD8CEA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8569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2f5897"/>
                </a:solidFill>
                <a:latin typeface="Palatino Linotype"/>
              </a:rPr>
              <a:t>I love you more …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3789000"/>
            <a:ext cx="85183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love you more than                                 </a:t>
            </a:r>
            <a:r>
              <a:rPr b="0" lang="en-US" sz="1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.</a:t>
            </a: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                                 cucumbers,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Than sausage, chicken and ham, 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Than onion, carrot 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                         or cabbage soup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And potatoes with mushrooms.</a:t>
            </a:r>
            <a:endParaRPr b="0" lang="en-US" sz="5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4005000"/>
            <a:ext cx="8569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love you more than 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                              orange juice, 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Than sugar, jam and cake,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Than ice cream, cheese 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                     or bacon and eggs, 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Russian tea, white coffee 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                                  and shake.</a:t>
            </a:r>
            <a:endParaRPr b="0" lang="en-US" sz="5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141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love you more than chocolate,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Than butter and honey on toast.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Oh, I love French fries 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                               of any size,</a:t>
            </a:r>
            <a:br>
              <a:rPr sz="5000"/>
            </a:br>
            <a:r>
              <a:rPr b="0" lang="en-US" sz="5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But I love you the MOST!</a:t>
            </a:r>
            <a:endParaRPr b="0" lang="en-US" sz="5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5:35:53Z</dcterms:created>
  <dc:creator>ADMIN</dc:creator>
  <dc:description/>
  <dc:language>en-US</dc:language>
  <cp:lastModifiedBy>ADMIN</cp:lastModifiedBy>
  <dcterms:modified xsi:type="dcterms:W3CDTF">2014-02-04T10:40:23Z</dcterms:modified>
  <cp:revision>7</cp:revision>
  <dc:subject/>
  <dc:title>I love you more than cucumbers, Than sausage, chicken and ham,  Than onion, carrot                            or cabbage soup And potatoes with mushrooms.</dc:title>
</cp:coreProperties>
</file>