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A5C-3960-441D-926E-6C973178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021-955A-49B3-B4E8-AB146C4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0C4-3F56-4218-AECD-1605F3CA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586-6351-4F96-ADD5-B336FD1C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116-53A0-407E-BEB4-2784D5F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404-1904-4216-8EE1-A948988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4D5-009D-4C82-84C9-AB47FAA9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E31-A271-4339-9E8C-07575960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A80-C781-49AE-B4F9-687A398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AC2-C022-43C1-88BB-3AF4FD4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69B-F3F9-45A7-BCBE-76DE14A8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ED4-8C52-4AB5-A6B0-0BA2A9E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0388-5B92-4EFE-87E9-584F63AAE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7785" TargetMode="External"/><Relationship Id="rId2" Type="http://schemas.openxmlformats.org/officeDocument/2006/relationships/hyperlink" Target="http://pedsovet.su/load/321-1-0-37785" TargetMode="External"/><Relationship Id="rId3" Type="http://schemas.openxmlformats.org/officeDocument/2006/relationships/hyperlink" Target="http://im2-tub-ru.yandex.net/i?id=38459011-42-72&amp;n=21" TargetMode="External"/><Relationship Id="rId4" Type="http://schemas.openxmlformats.org/officeDocument/2006/relationships/hyperlink" Target="http://im2-tub-ru.yandex.net/i?id=38459011-42-72&amp;n=21" TargetMode="External"/><Relationship Id="rId5" Type="http://schemas.openxmlformats.org/officeDocument/2006/relationships/hyperlink" Target="http://im2-tub-ru.yandex.net/i?id=149147827-21-72&amp;n=21" TargetMode="External"/><Relationship Id="rId6" Type="http://schemas.openxmlformats.org/officeDocument/2006/relationships/hyperlink" Target="http://im2-tub-ru.yandex.net/i?id=149147827-21-72&amp;n=21" TargetMode="External"/><Relationship Id="rId7" Type="http://schemas.openxmlformats.org/officeDocument/2006/relationships/hyperlink" Target="http://im2-tub-ru.yandex.net/i?id=149147827-21-72&amp;n=21" TargetMode="External"/><Relationship Id="rId8" Type="http://schemas.openxmlformats.org/officeDocument/2006/relationships/hyperlink" Target="http://im8-tub-ru.yandex.net/i?id=124365106-05-72&amp;n=21" TargetMode="External"/><Relationship Id="rId9" Type="http://schemas.openxmlformats.org/officeDocument/2006/relationships/hyperlink" Target="http://im8-tub-ru.yandex.net/i?id=124365106-05-72&amp;n=21" TargetMode="External"/><Relationship Id="rId10" Type="http://schemas.openxmlformats.org/officeDocument/2006/relationships/hyperlink" Target="http://im8-tub-ru.yandex.net/i?id=135508333-60-72&amp;n=21" TargetMode="External"/><Relationship Id="rId11" Type="http://schemas.openxmlformats.org/officeDocument/2006/relationships/hyperlink" Target="http://im8-tub-ru.yandex.net/i?id=135508333-60-72&amp;n=21" TargetMode="External"/><Relationship Id="rId12" Type="http://schemas.openxmlformats.org/officeDocument/2006/relationships/hyperlink" Target="http://im3-tub-ru.yandex.net/i?id=95763718-44-72&amp;n=21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ookman Old Style"/>
              </a:rPr>
              <a:t>Степени сравнения прилагательных.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Bookman Old Style"/>
              </a:rPr>
              <a:t>Degrees of comparison</a:t>
            </a:r>
            <a:r>
              <a:rPr b="0" lang="en-US" sz="6600" spc="-1" strike="noStrike">
                <a:solidFill>
                  <a:srgbClr val="cc0000"/>
                </a:solidFill>
                <a:latin typeface="Calibri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2000" y="4076640"/>
            <a:ext cx="71276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Муравьева Галина Федо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учитель английского язы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МАОУ гимназия №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027320" y="58770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Новороссий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Эта кошка маленьк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Эта кошка бо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Эта кошка самая больш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is cat is sm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is cat is bi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Bookman Old Style"/>
              </a:rPr>
              <a:t>g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er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is cat is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bi</a:t>
            </a:r>
            <a:r>
              <a:rPr b="1" lang="en-US" sz="2400" spc="-1" strike="noStrike">
                <a:solidFill>
                  <a:srgbClr val="660033"/>
                </a:solidFill>
                <a:latin typeface="Bookman Old Style"/>
              </a:rPr>
              <a:t>g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est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6711840" y="4290840"/>
            <a:ext cx="1693800" cy="250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907240" y="3481560"/>
            <a:ext cx="1199880" cy="211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4986360" y="2914560"/>
            <a:ext cx="1042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99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равнительная степ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9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big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40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181240" y="35733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bi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886120" y="357336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214640" y="414648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ong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252520" y="4154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943360" y="41702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054080" y="4632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hort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10760" y="4632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097440" y="463248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261440" y="501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ol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311920" y="50133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2845800" y="501336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927680" y="4154400"/>
            <a:ext cx="13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Bookman Old Style"/>
              </a:rPr>
              <a:t>th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48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евосходная степ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e ... 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84720" y="387828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new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380400" y="38847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39640" y="38894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81880" y="3889440"/>
            <a:ext cx="6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566000" y="43354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lever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389040" y="4329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094280" y="433872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5030280" y="4352760"/>
            <a:ext cx="6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639800" y="4797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asty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389040" y="479124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4069800" y="479736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ast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Bookman Old Style"/>
              </a:rPr>
              <a:t>i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060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ransla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1052640"/>
            <a:ext cx="83642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яц больш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he hare is bi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иса больше за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he fox is bi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Bookman Old Style"/>
              </a:rPr>
              <a:t>gg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r than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the 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. Волк самый больш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he wolf is 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bi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Bookman Old Style"/>
              </a:rPr>
              <a:t>gg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est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Bookman Old Style"/>
              </a:rPr>
              <a:t>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126040" y="2779560"/>
            <a:ext cx="1122480" cy="188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6066000" y="3541680"/>
            <a:ext cx="1998360" cy="24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7047000" y="4651200"/>
            <a:ext cx="1938240" cy="28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edsovet.su/load/321-1-0-377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заяц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m2-tub-ru.yandex.net/i?id=38459011-42-72&amp;n=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лис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m2-tub-ru.yandex.net/i?id=149147827-21-72&amp;n=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лк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im8-tub-ru.yandex.net/i?id=124365106-05-72&amp;n=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кошк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im8-tub-ru.yandex.net/i?id=135508333-60-72&amp;n=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кошка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//im3-tub-ru.yandex.net/i?id=95763718-44-72&amp;n=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кош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8-tub-ru.yandex.net/i?id=451079807-02-72&amp;n=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2:18:49Z</dcterms:created>
  <dc:creator>User</dc:creator>
  <dc:description/>
  <dc:language>en-US</dc:language>
  <cp:lastModifiedBy>ГАЛИНА</cp:lastModifiedBy>
  <dcterms:modified xsi:type="dcterms:W3CDTF">2013-08-29T20:22:37Z</dcterms:modified>
  <cp:revision>6</cp:revision>
  <dc:subject/>
  <dc:title>Степени сравнения прилагательных. Degrees of comparison.</dc:title>
</cp:coreProperties>
</file>