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014C-CFDE-47C4-BA7A-0D4A9F73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6B3CD-85EA-4F58-A272-6854E1F4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01A30-93C5-4BDB-8655-FFCF52F9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60889-C74B-4C16-963F-92282DD0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F132-559E-4635-9E55-D3C8FDB7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812F-D24A-40B9-B0CC-DC59A251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93AA-E3EB-4093-84A3-6DA3ECE8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E230-1C42-4B69-80CD-DCCCE776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0E30-D1AB-4FC6-B3E2-4A723F79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0481-E49E-4ED1-B49C-A14C3FFC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3F4B-A29A-4D00-B727-F798898B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57EC8-10B0-4D0A-99EF-21F2B040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DE02-9CCD-42FC-AA0F-4C66D2DA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11CC-3E1B-43AA-B882-C2345E55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1E0D-1ADD-4B9B-AE99-803C1653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5B10-2927-4BF6-B0CD-D7C1764E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95BE-4E7B-4B41-BD63-B34DA646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59707-4AE3-4642-BB09-79162DEE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0616E-3236-4B5D-AC47-4AA630CF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A8739-2F79-43E7-B076-83967A15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35A14-5E49-47B5-B226-1E702DA1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D2F32-C61D-4099-ACB0-C9D19C4B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83315-730B-495E-90ED-B6E94D82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EAD79-ACF7-4CFA-B67D-27C8A1BD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0A3C-60BF-4599-9825-6CDB20274234}" type="slidenum">
              <a:rPr b="0" lang="en-US" sz="1200" spc="-1" strike="noStrike">
                <a:solidFill>
                  <a:srgbClr val="f7f3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ABB6-BA61-47C1-99D6-8A10090C365C}" type="slidenum">
              <a:rPr b="0" lang="en-US" sz="1200" spc="-1" strike="noStrike">
                <a:solidFill>
                  <a:srgbClr val="f7f3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124000" y="981000"/>
            <a:ext cx="5210280" cy="449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c1ba"/>
                </a:solidFill>
                <a:latin typeface="Arial"/>
              </a:rPr>
              <a:t>SIGHTS 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d8c1ba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c1ba"/>
                </a:solidFill>
                <a:latin typeface="Arial"/>
              </a:rPr>
              <a:t>OF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d8c1ba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c1ba"/>
                </a:solidFill>
                <a:latin typeface="Arial"/>
              </a:rPr>
              <a:t>LONDON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d8c1ba"/>
              </a:solidFill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c1ba"/>
                </a:solidFill>
                <a:latin typeface="Garamond"/>
              </a:rPr>
              <a:t>ST. JAMES'S PARK</a:t>
            </a:r>
            <a:br>
              <a:rPr sz="3600"/>
            </a:br>
            <a:r>
              <a:rPr b="1" lang="en-US" sz="2800" spc="-1" strike="noStrike">
                <a:solidFill>
                  <a:srgbClr val="d8c1ba"/>
                </a:solidFill>
                <a:latin typeface="Garamond"/>
              </a:rPr>
              <a:t>The oldest London park with excellent views of Buckingham Palace</a:t>
            </a:r>
            <a:br>
              <a:rPr sz="2800"/>
            </a:br>
            <a:endParaRPr b="1" lang="en-US" sz="28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c1ba"/>
                </a:solidFill>
                <a:latin typeface="Garamond"/>
              </a:rPr>
              <a:t>TOWER BRIDGE</a:t>
            </a:r>
            <a:br>
              <a:rPr sz="3600"/>
            </a:br>
            <a:r>
              <a:rPr b="1" lang="en-US" sz="2800" spc="-1" strike="noStrike">
                <a:solidFill>
                  <a:srgbClr val="d8c1ba"/>
                </a:solidFill>
                <a:latin typeface="Garamond"/>
              </a:rPr>
              <a:t>A unique drawbridge across the Thames</a:t>
            </a:r>
            <a:endParaRPr b="1" lang="en-US" sz="28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544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c1ba"/>
                </a:solidFill>
                <a:latin typeface="Garamond"/>
              </a:rPr>
              <a:t>THE TOWER OF LONDON</a:t>
            </a:r>
            <a:br>
              <a:rPr sz="3600"/>
            </a:br>
            <a:r>
              <a:rPr b="1" lang="en-US" sz="2800" spc="-1" strike="noStrike">
                <a:solidFill>
                  <a:srgbClr val="d8c1ba"/>
                </a:solidFill>
                <a:latin typeface="Garamond"/>
              </a:rPr>
              <a:t>Once a fortress, a prison, an arsenal and a royal palace, now it’s a museum</a:t>
            </a:r>
            <a:endParaRPr b="1" lang="en-US" sz="28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511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68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68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3132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c1ba"/>
                </a:solidFill>
                <a:latin typeface="Garamond"/>
              </a:rPr>
              <a:t>ST. PAUL'S CATHEDRAL</a:t>
            </a:r>
            <a:br>
              <a:rPr sz="3600"/>
            </a:br>
            <a:r>
              <a:rPr b="1" lang="en-US" sz="2800" spc="-1" strike="noStrike">
                <a:solidFill>
                  <a:srgbClr val="d8c1ba"/>
                </a:solidFill>
                <a:latin typeface="Garamond"/>
              </a:rPr>
              <a:t>London's largest and most famous cathedral, built by Sir Christopher Wren</a:t>
            </a:r>
            <a:endParaRPr b="1" lang="en-US" sz="28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6084720" cy="604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88000" y="2349000"/>
            <a:ext cx="2556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c1ba"/>
                </a:solidFill>
                <a:latin typeface="Garamond"/>
              </a:rPr>
              <a:t>COVENT GARDEN</a:t>
            </a:r>
            <a:r>
              <a:rPr b="1" lang="en-US" sz="4000" spc="-1" strike="noStrike">
                <a:solidFill>
                  <a:srgbClr val="d8c1ba"/>
                </a:solidFill>
                <a:latin typeface="Garamond"/>
              </a:rPr>
              <a:t> </a:t>
            </a:r>
            <a:br>
              <a:rPr sz="4000"/>
            </a:br>
            <a:r>
              <a:rPr b="1" lang="en-US" sz="2800" spc="-1" strike="noStrike">
                <a:solidFill>
                  <a:srgbClr val="d8c1ba"/>
                </a:solidFill>
                <a:latin typeface="Garamond"/>
              </a:rPr>
              <a:t>The Royal Opera House</a:t>
            </a:r>
            <a:endParaRPr b="1" lang="en-US" sz="28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553440" cy="640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5516640"/>
            <a:ext cx="8291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c1ba"/>
                </a:solidFill>
                <a:latin typeface="Garamond"/>
              </a:rPr>
              <a:t>BRITISH MUSEUM</a:t>
            </a:r>
            <a:br>
              <a:rPr sz="3600"/>
            </a:br>
            <a:r>
              <a:rPr b="1" lang="en-US" sz="2800" spc="-1" strike="noStrike">
                <a:solidFill>
                  <a:srgbClr val="d8c1ba"/>
                </a:solidFill>
                <a:latin typeface="Garamond"/>
              </a:rPr>
              <a:t>An amasing collection of British and foreign Art with antiquities</a:t>
            </a:r>
            <a:endParaRPr b="1" lang="en-US" sz="28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33920" y="333000"/>
            <a:ext cx="361008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c1ba"/>
                </a:solidFill>
                <a:latin typeface="Garamond"/>
              </a:rPr>
              <a:t>NELSON'S COLUMN</a:t>
            </a:r>
            <a:br>
              <a:rPr sz="3600"/>
            </a:br>
            <a:r>
              <a:rPr b="1" lang="en-US" sz="2800" spc="-1" strike="noStrike">
                <a:solidFill>
                  <a:srgbClr val="d8c1ba"/>
                </a:solidFill>
                <a:latin typeface="Garamond"/>
              </a:rPr>
              <a:t>A very tall stone tower in Trafalgar Square, built in honour of Admiral Nelson</a:t>
            </a:r>
            <a:endParaRPr b="1" lang="en-US" sz="28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113080" cy="6480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368316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c1ba"/>
                </a:solidFill>
                <a:latin typeface="Garamond"/>
              </a:rPr>
              <a:t>PICCADILLY CIRCUS</a:t>
            </a:r>
            <a:br>
              <a:rPr sz="3600"/>
            </a:br>
            <a:r>
              <a:rPr b="1" lang="en-US" sz="2800" spc="-1" strike="noStrike">
                <a:solidFill>
                  <a:srgbClr val="d8c1ba"/>
                </a:solidFill>
                <a:latin typeface="Garamond"/>
              </a:rPr>
              <a:t>A busy square in central London known for the statue of Eros</a:t>
            </a:r>
            <a:endParaRPr b="1" lang="en-US" sz="28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780000" y="260280"/>
            <a:ext cx="511308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4868640"/>
            <a:ext cx="87138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c1ba"/>
                </a:solidFill>
                <a:latin typeface="Garamond"/>
              </a:rPr>
              <a:t>TRAFALGAR SQUARE AND NATIONAL GALLERY</a:t>
            </a:r>
            <a:br>
              <a:rPr sz="3600"/>
            </a:br>
            <a:r>
              <a:rPr b="1" lang="en-US" sz="2800" spc="-1" strike="noStrike">
                <a:solidFill>
                  <a:srgbClr val="d8c1ba"/>
                </a:solidFill>
                <a:latin typeface="Garamond"/>
              </a:rPr>
              <a:t>A famous London square with the gallery which contains the largest collection of Western paintings in Britain, from the 13</a:t>
            </a:r>
            <a:r>
              <a:rPr b="1" lang="en-US" sz="2800" spc="-1" strike="noStrike" baseline="30000">
                <a:solidFill>
                  <a:srgbClr val="d8c1ba"/>
                </a:solidFill>
                <a:latin typeface="Garamond"/>
              </a:rPr>
              <a:t>th</a:t>
            </a:r>
            <a:r>
              <a:rPr b="1" lang="en-US" sz="2800" spc="-1" strike="noStrike">
                <a:solidFill>
                  <a:srgbClr val="d8c1ba"/>
                </a:solidFill>
                <a:latin typeface="Garamond"/>
              </a:rPr>
              <a:t> to the 20</a:t>
            </a:r>
            <a:r>
              <a:rPr b="1" lang="en-US" sz="2800" spc="-1" strike="noStrike" baseline="30000">
                <a:solidFill>
                  <a:srgbClr val="d8c1ba"/>
                </a:solidFill>
                <a:latin typeface="Garamond"/>
              </a:rPr>
              <a:t>th</a:t>
            </a:r>
            <a:r>
              <a:rPr b="1" lang="en-US" sz="2800" spc="-1" strike="noStrike">
                <a:solidFill>
                  <a:srgbClr val="d8c1ba"/>
                </a:solidFill>
                <a:latin typeface="Garamond"/>
              </a:rPr>
              <a:t> centuries</a:t>
            </a:r>
            <a:endParaRPr b="1" lang="en-US" sz="28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4360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95280" y="1700280"/>
            <a:ext cx="849636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c1ba"/>
                </a:solidFill>
                <a:latin typeface="Arial"/>
              </a:rPr>
              <a:t>Над презентацией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d8c1ba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c1ba"/>
                </a:solidFill>
                <a:latin typeface="Arial"/>
              </a:rPr>
              <a:t>работали ученицы 10"А" класса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d8c1ba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c1ba"/>
                </a:solidFill>
                <a:latin typeface="Arial"/>
              </a:rPr>
              <a:t>Иванченко Юлия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d8c1ba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c1ba"/>
                </a:solidFill>
                <a:latin typeface="Arial"/>
              </a:rPr>
              <a:t>и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d8c1ba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c1ba"/>
                </a:solidFill>
                <a:latin typeface="Arial"/>
              </a:rPr>
              <a:t>Немец Яна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d8c1ba"/>
              </a:soli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c1ba"/>
                </a:solidFill>
                <a:latin typeface="Garamond"/>
              </a:rPr>
              <a:t>MADAME TUSSAUD'S</a:t>
            </a:r>
            <a:br>
              <a:rPr sz="3600"/>
            </a:br>
            <a:r>
              <a:rPr b="1" lang="en-US" sz="2800" spc="-1" strike="noStrike">
                <a:solidFill>
                  <a:srgbClr val="d8c1ba"/>
                </a:solidFill>
                <a:latin typeface="Garamond"/>
              </a:rPr>
              <a:t>A celebrated museum of wax figures</a:t>
            </a:r>
            <a:endParaRPr b="1" lang="en-US" sz="28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3961080" cy="518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932360" y="1484280"/>
            <a:ext cx="3924360" cy="5184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5589720"/>
            <a:ext cx="8353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c1ba"/>
                </a:solidFill>
                <a:latin typeface="Garamond"/>
              </a:rPr>
              <a:t>ALBERT HALL</a:t>
            </a:r>
            <a:br>
              <a:rPr sz="3600"/>
            </a:br>
            <a:r>
              <a:rPr b="1" lang="en-US" sz="2800" spc="-1" strike="noStrike">
                <a:solidFill>
                  <a:srgbClr val="d8c1ba"/>
                </a:solidFill>
                <a:latin typeface="Garamond"/>
              </a:rPr>
              <a:t>A grand concert hall famous for its classical music concerts</a:t>
            </a:r>
            <a:endParaRPr b="1" lang="en-US" sz="28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82440"/>
            <a:ext cx="8642160" cy="5291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32360" y="1052280"/>
            <a:ext cx="3889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c1ba"/>
                </a:solidFill>
                <a:latin typeface="Garamond"/>
              </a:rPr>
              <a:t>NATURAL HISTORY MUSEUM</a:t>
            </a:r>
            <a:br>
              <a:rPr sz="4000"/>
            </a:br>
            <a:r>
              <a:rPr b="1" lang="en-US" sz="2800" spc="-1" strike="noStrike">
                <a:solidFill>
                  <a:srgbClr val="d8c1ba"/>
                </a:solidFill>
                <a:latin typeface="Garamond"/>
              </a:rPr>
              <a:t>The national collection of fossils and living plants and animals, minerals, gems, meteorites</a:t>
            </a:r>
            <a:endParaRPr b="1" lang="en-US" sz="28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897440" cy="64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5084640"/>
            <a:ext cx="84963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c1ba"/>
                </a:solidFill>
                <a:latin typeface="Garamond"/>
              </a:rPr>
              <a:t>HARRODS</a:t>
            </a:r>
            <a:br>
              <a:rPr sz="4000"/>
            </a:br>
            <a:r>
              <a:rPr b="1" lang="en-US" sz="2800" spc="-1" strike="noStrike">
                <a:solidFill>
                  <a:srgbClr val="d8c1ba"/>
                </a:solidFill>
                <a:latin typeface="Garamond"/>
              </a:rPr>
              <a:t>The most illustrious and exclusive department store</a:t>
            </a:r>
            <a:endParaRPr b="1" lang="en-US" sz="28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525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68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68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5373360"/>
            <a:ext cx="829152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c1ba"/>
                </a:solidFill>
                <a:latin typeface="Garamond"/>
              </a:rPr>
              <a:t>BUCKINGHAM PALA</a:t>
            </a:r>
            <a:r>
              <a:rPr b="1" lang="ru-RU" sz="3600" spc="-1" strike="noStrike">
                <a:solidFill>
                  <a:srgbClr val="d8c1ba"/>
                </a:solidFill>
                <a:latin typeface="Garamond"/>
              </a:rPr>
              <a:t>С</a:t>
            </a:r>
            <a:r>
              <a:rPr b="1" lang="en-US" sz="3600" spc="-1" strike="noStrike">
                <a:solidFill>
                  <a:srgbClr val="d8c1ba"/>
                </a:solidFill>
                <a:latin typeface="Garamond"/>
              </a:rPr>
              <a:t>E</a:t>
            </a:r>
            <a:br>
              <a:rPr sz="3600"/>
            </a:br>
            <a:r>
              <a:rPr b="1" lang="en-US" sz="2800" spc="-1" strike="noStrike">
                <a:solidFill>
                  <a:srgbClr val="d8c1ba"/>
                </a:solidFill>
                <a:latin typeface="Garamond"/>
              </a:rPr>
              <a:t>London residence of the Queen, the principal seat of the monarchy</a:t>
            </a:r>
            <a:endParaRPr b="1" lang="en-US" sz="28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502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c1ba"/>
                </a:solidFill>
                <a:latin typeface="Garamond"/>
              </a:rPr>
              <a:t>DOWNING STREET, 10</a:t>
            </a:r>
            <a:br>
              <a:rPr sz="4000"/>
            </a:br>
            <a:r>
              <a:rPr b="1" lang="en-US" sz="2800" spc="-1" strike="noStrike">
                <a:solidFill>
                  <a:srgbClr val="d8c1ba"/>
                </a:solidFill>
                <a:latin typeface="Garamond"/>
              </a:rPr>
              <a:t>The official residence of Prime Ministers</a:t>
            </a:r>
            <a:endParaRPr b="1" lang="en-US" sz="28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713800" cy="5543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39956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c1ba"/>
                </a:solidFill>
                <a:latin typeface="Garamond"/>
              </a:rPr>
              <a:t>WESTMINSTER ABBEY</a:t>
            </a:r>
            <a:br>
              <a:rPr sz="3600"/>
            </a:br>
            <a:r>
              <a:rPr b="1" lang="en-US" sz="2800" spc="-1" strike="noStrike">
                <a:solidFill>
                  <a:srgbClr val="d8c1ba"/>
                </a:solidFill>
                <a:latin typeface="Garamond"/>
              </a:rPr>
              <a:t>Almost all English kings and queens have been crowned and are buried here</a:t>
            </a:r>
            <a:endParaRPr b="1" lang="en-US" sz="28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24360" y="260280"/>
            <a:ext cx="5040360" cy="633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91280" y="836640"/>
            <a:ext cx="29527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c1ba"/>
                </a:solidFill>
                <a:latin typeface="Garamond"/>
              </a:rPr>
              <a:t>HOUSES OF PAR-LIAMENT &amp; BIG BEN</a:t>
            </a:r>
            <a:br>
              <a:rPr sz="3600"/>
            </a:br>
            <a:r>
              <a:rPr b="1" lang="en-US" sz="2800" spc="-1" strike="noStrike">
                <a:solidFill>
                  <a:srgbClr val="d8c1ba"/>
                </a:solidFill>
                <a:latin typeface="Garamond"/>
              </a:rPr>
              <a:t>The seat of the supreme legislature in Great Britain and Northern Ireland. The Clock Tower houses the famous clock and bell – Big Ben</a:t>
            </a:r>
            <a:r>
              <a:rPr b="1" lang="en-US" sz="3200" spc="-1" strike="noStrike">
                <a:solidFill>
                  <a:srgbClr val="d8c1ba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608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0:59:29Z</dcterms:created>
  <dc:creator>PALADIN</dc:creator>
  <dc:description/>
  <dc:language>en-US</dc:language>
  <cp:lastModifiedBy>кабинет английского</cp:lastModifiedBy>
  <dcterms:modified xsi:type="dcterms:W3CDTF">2009-09-23T04:49:13Z</dcterms:modified>
  <cp:revision>10</cp:revision>
  <dc:subject/>
  <dc:title>Sights of London.</dc:title>
</cp:coreProperties>
</file>