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0F38-7947-4EA3-8E21-BD487714B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015B-E42A-4559-942F-D8ED9C9FE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F55B-B7A9-46F6-A05F-1A7FE6D14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5AC7-B866-4727-B30C-4BD486337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134B-F6F7-46C4-8051-C5F79E8EC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89CE-03EA-4603-9360-38A5EB827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B3E5-3406-4234-A507-17A23C13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387D-30BD-4DA3-9093-8C45CD890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E165-D760-4C66-9B9A-FF18FFE98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73D2-B859-4084-9397-7978246B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4B09-3D02-4390-92BF-77BDA0B0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0457-8E95-4266-87DE-58E18B5E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FC0AE-0F1C-4965-9A23-EBC8910F73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image" Target="../media/image12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User\Рабочий стол\замок\skazka_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C:\Documents and Settings\User\Рабочий стол\замок\Babochki82.gif"/>
          <p:cNvPicPr/>
          <p:nvPr/>
        </p:nvPicPr>
        <p:blipFill>
          <a:blip r:embed="rId2"/>
          <a:stretch/>
        </p:blipFill>
        <p:spPr>
          <a:xfrm>
            <a:off x="642960" y="2286000"/>
            <a:ext cx="476280" cy="485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C:\Documents and Settings\User\Рабочий стол\замок\Babochki5.gif"/>
          <p:cNvPicPr/>
          <p:nvPr/>
        </p:nvPicPr>
        <p:blipFill>
          <a:blip r:embed="rId3"/>
          <a:stretch/>
        </p:blipFill>
        <p:spPr>
          <a:xfrm>
            <a:off x="1214280" y="2714760"/>
            <a:ext cx="486000" cy="409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C:\Documents and Settings\User\Рабочий стол\замок\791529365.jpg"/>
          <p:cNvPicPr/>
          <p:nvPr/>
        </p:nvPicPr>
        <p:blipFill>
          <a:blip r:embed="rId4"/>
          <a:stretch/>
        </p:blipFill>
        <p:spPr>
          <a:xfrm>
            <a:off x="0" y="5967360"/>
            <a:ext cx="619200" cy="890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C:\Documents and Settings\User\Рабочий стол\замок\399297897.jpg"/>
          <p:cNvPicPr/>
          <p:nvPr/>
        </p:nvPicPr>
        <p:blipFill>
          <a:blip r:embed="rId5"/>
          <a:stretch/>
        </p:blipFill>
        <p:spPr>
          <a:xfrm>
            <a:off x="428760" y="5932440"/>
            <a:ext cx="642960" cy="925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C:\Documents and Settings\User\Рабочий стол\замок\399297897.jpg"/>
          <p:cNvPicPr/>
          <p:nvPr/>
        </p:nvPicPr>
        <p:blipFill>
          <a:blip r:embed="rId6"/>
          <a:stretch/>
        </p:blipFill>
        <p:spPr>
          <a:xfrm>
            <a:off x="4071960" y="5932440"/>
            <a:ext cx="642960" cy="925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C:\Documents and Settings\User\Рабочий стол\замок\399297897.jpg"/>
          <p:cNvPicPr/>
          <p:nvPr/>
        </p:nvPicPr>
        <p:blipFill>
          <a:blip r:embed="rId7"/>
          <a:stretch/>
        </p:blipFill>
        <p:spPr>
          <a:xfrm>
            <a:off x="2928960" y="5932440"/>
            <a:ext cx="642960" cy="925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C:\Documents and Settings\User\Рабочий стол\замок\399297897.jpg"/>
          <p:cNvPicPr/>
          <p:nvPr/>
        </p:nvPicPr>
        <p:blipFill>
          <a:blip r:embed="rId8"/>
          <a:stretch/>
        </p:blipFill>
        <p:spPr>
          <a:xfrm>
            <a:off x="1714680" y="5932440"/>
            <a:ext cx="642600" cy="925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C:\Documents and Settings\User\Рабочий стол\замок\791529365.jpg"/>
          <p:cNvPicPr/>
          <p:nvPr/>
        </p:nvPicPr>
        <p:blipFill>
          <a:blip r:embed="rId9"/>
          <a:stretch/>
        </p:blipFill>
        <p:spPr>
          <a:xfrm>
            <a:off x="1071720" y="5967360"/>
            <a:ext cx="618840" cy="890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C:\Documents and Settings\User\Рабочий стол\замок\791529365.jpg"/>
          <p:cNvPicPr/>
          <p:nvPr/>
        </p:nvPicPr>
        <p:blipFill>
          <a:blip r:embed="rId10"/>
          <a:stretch/>
        </p:blipFill>
        <p:spPr>
          <a:xfrm>
            <a:off x="2428920" y="5967360"/>
            <a:ext cx="619200" cy="890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C:\Documents and Settings\User\Рабочий стол\замок\791529365.jpg"/>
          <p:cNvPicPr/>
          <p:nvPr/>
        </p:nvPicPr>
        <p:blipFill>
          <a:blip r:embed="rId11"/>
          <a:stretch/>
        </p:blipFill>
        <p:spPr>
          <a:xfrm>
            <a:off x="3571920" y="5967360"/>
            <a:ext cx="61920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Documents and Settings\User\Рабочий стол\замок\0_8811_117af114_X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Documents and Settings\User\Рабочий стол\замок\169655107.gif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Documents and Settings\User\Рабочий стол\замок\skazka_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Documents and Settings\User\Рабочий стол\замок\658035936.jpg"/>
          <p:cNvPicPr/>
          <p:nvPr/>
        </p:nvPicPr>
        <p:blipFill>
          <a:blip r:embed="rId2"/>
          <a:stretch/>
        </p:blipFill>
        <p:spPr>
          <a:xfrm>
            <a:off x="7429680" y="714240"/>
            <a:ext cx="1500120" cy="1500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C:\Documents and Settings\User\Рабочий стол\замок\FIREWRK6.GIF"/>
          <p:cNvPicPr/>
          <p:nvPr/>
        </p:nvPicPr>
        <p:blipFill>
          <a:blip r:embed="rId3"/>
          <a:stretch/>
        </p:blipFill>
        <p:spPr>
          <a:xfrm>
            <a:off x="1714680" y="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C:\Documents and Settings\User\Рабочий стол\замок\678478114.jpg"/>
          <p:cNvPicPr/>
          <p:nvPr/>
        </p:nvPicPr>
        <p:blipFill>
          <a:blip r:embed="rId4"/>
          <a:stretch/>
        </p:blipFill>
        <p:spPr>
          <a:xfrm>
            <a:off x="3571920" y="1214280"/>
            <a:ext cx="1643040" cy="3286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C:\Documents and Settings\User\Рабочий стол\замок\362931396.jpg"/>
          <p:cNvPicPr/>
          <p:nvPr/>
        </p:nvPicPr>
        <p:blipFill>
          <a:blip r:embed="rId5"/>
          <a:stretch/>
        </p:blipFill>
        <p:spPr>
          <a:xfrm>
            <a:off x="5929200" y="3500280"/>
            <a:ext cx="471600" cy="1428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C:\Documents and Settings\User\Рабочий стол\замок\0_7cd5b_8eb14d7f_L.jpg"/>
          <p:cNvPicPr/>
          <p:nvPr/>
        </p:nvPicPr>
        <p:blipFill>
          <a:blip r:embed="rId6"/>
          <a:stretch/>
        </p:blipFill>
        <p:spPr>
          <a:xfrm>
            <a:off x="-285840" y="1428840"/>
            <a:ext cx="20671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4-10T12:12:35Z</dcterms:modified>
  <cp:revision>5</cp:revision>
  <dc:subject/>
  <dc:title>Слайд 1</dc:title>
</cp:coreProperties>
</file>