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192-8857-44CA-863D-FB1B8D1A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0FB-2227-4D5A-BA4A-F2FBFAB1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342-165A-4705-AE1E-71D35B11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AA-58D0-47C7-95C9-5E5C5D58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CD0-9885-42B1-8804-DC6D9A0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A84-3C5A-4243-898F-0A2F6C4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D3A-77EA-417C-841E-3B379F4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95C-AAB0-4BA9-9217-7E76520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483-AF96-4058-B029-64F8EE9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28D-F388-40D9-BF09-10F03EF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58E-83F5-4B95-9B7D-EAA79ED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9AD-8D71-4639-813F-65E6521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A82-42D3-4591-B356-7B08EAC8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295280"/>
            <a:ext cx="7315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ported Speech:</a:t>
            </a: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34340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нова М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«гимназия № 15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219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Reported Speech to express the exact meaning of what someone s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472428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 not use quotation m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ported Spe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irect Spe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He asked, “What is his nam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orted Spe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He asked what his name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8380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port statements we use a reporting verb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, tell, explain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096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nd possessive adjectives change according to the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irect spee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He said, “I can fix it myself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orted spee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He said he couldn’t  fix it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685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words chang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371600"/>
            <a:ext cx="2590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irect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371600"/>
            <a:ext cx="3276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orted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743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76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809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343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54864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60199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609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reporting verb is in the P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b tenses chang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86000"/>
            <a:ext cx="3581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irect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209680"/>
            <a:ext cx="3048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orted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581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257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24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expressions chang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295280"/>
            <a:ext cx="3276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irect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/month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week/month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ay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371600"/>
            <a:ext cx="4267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orted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eek/month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y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week/month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y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ay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3733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410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71800" y="59436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23:50Z</dcterms:created>
  <dc:creator>Марина</dc:creator>
  <dc:description/>
  <dc:language>en-US</dc:language>
  <cp:lastModifiedBy>Марина</cp:lastModifiedBy>
  <dcterms:modified xsi:type="dcterms:W3CDTF">2013-05-09T19:59:3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