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BB9-2AC3-425A-925B-E76B8EB3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DEE-BA3C-4D80-8C59-5B64D331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A59-6AE2-4E65-9C7D-4DBDBC09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FE2-0BA7-42D7-AC19-DD41E60C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6F1-5C4D-454E-B4E6-8CB08106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D24-6A1E-4F17-A0C9-DF5452A5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3FD-1C0C-458E-88FB-0139FF96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F9F-34B7-49C4-BE8E-9910A6BC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EF4-A290-46D1-BDE4-84766FC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936-BAF4-4B78-887B-2087265A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66E-7AD8-4EC5-A9EC-03DCD6A6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36F-52CC-4241-A03E-A1421C0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8FA8-BCAB-4F8E-9A7D-92D44C5CC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goism.ru/articles/details?articleId=2603" TargetMode="External"/><Relationship Id="rId3" Type="http://schemas.openxmlformats.org/officeDocument/2006/relationships/hyperlink" Target="http://egoism.ru/articles/details?articleId=2603" TargetMode="External"/><Relationship Id="rId4" Type="http://schemas.openxmlformats.org/officeDocument/2006/relationships/hyperlink" Target="http://egoism.ru/articles/details?articleId=2603" TargetMode="External"/><Relationship Id="rId5" Type="http://schemas.openxmlformats.org/officeDocument/2006/relationships/hyperlink" Target="http://egoism.ru/articles/details?articleId=2603" TargetMode="External"/><Relationship Id="rId6" Type="http://schemas.openxmlformats.org/officeDocument/2006/relationships/hyperlink" Target="http://egoism.ru/articles/details?articleId=2603" TargetMode="External"/><Relationship Id="rId7" Type="http://schemas.openxmlformats.org/officeDocument/2006/relationships/hyperlink" Target="http://egoism.ru/articles/details?articleId=2603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41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9760" y="2773440"/>
            <a:ext cx="446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Telebridge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2960" y="3733920"/>
            <a:ext cx="794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«Popular Russian and English museums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41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7480" y="380880"/>
            <a:ext cx="84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w it’s time to know what kinds of museums are in Russia and Eng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1316160" cy="1752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1840" y="29718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ural History Muse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8200" y="297180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352680" y="1219320"/>
            <a:ext cx="2590920" cy="172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55600" y="297180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atre muse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628720" cy="1578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9840" y="55990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tyakov Galler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0880" y="3809880"/>
            <a:ext cx="2629080" cy="1752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72160" y="5751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g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276720" y="3809880"/>
            <a:ext cx="2895480" cy="1712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70160" y="590400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arskaya v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477120" y="37339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2760" y="380880"/>
            <a:ext cx="85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Look at the pictures and choose the name of the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1316160" cy="1752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80" y="297180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) The Tower of Lond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00" y="32767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Peterg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" y="3581280"/>
            <a:ext cx="33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) The Natural History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0760" y="39625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436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9880" y="39877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05320" y="1143000"/>
            <a:ext cx="2895480" cy="1712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60120" y="35812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) Theatre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3276720"/>
            <a:ext cx="23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Angarskaya v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9760" y="29718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) Peterg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12040" y="39146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7480" y="391464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781680" y="11430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993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5600" y="31240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) Tretyakov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3429000"/>
            <a:ext cx="23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The Natural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se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65840" y="422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7400" y="396252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) Angarskaya v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7880" y="421956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2960" y="42195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1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9160" y="609480"/>
            <a:ext cx="78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ing the song toget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2438280"/>
            <a:ext cx="1752840" cy="2210040"/>
          </a:xfrm>
          <a:custGeom>
            <a:avLst/>
            <a:gdLst>
              <a:gd name="textAreaLeft" fmla="*/ 113400 w 1752840"/>
              <a:gd name="textAreaRight" fmla="*/ 1639440 w 1752840"/>
              <a:gd name="textAreaTop" fmla="*/ 113400 h 2210040"/>
              <a:gd name="textAreaBottom" fmla="*/ 2096640 h 2210040"/>
            </a:gdLst>
            <a:ahLst/>
            <a:rect l="textAreaLeft" t="textAreaTop" r="textAreaRight" b="textAreaBottom"/>
            <a:pathLst>
              <a:path w="21600" h="27233">
                <a:moveTo>
                  <a:pt x="0" y="0"/>
                </a:moveTo>
                <a:lnTo>
                  <a:pt x="21600" y="0"/>
                </a:lnTo>
                <a:lnTo>
                  <a:pt x="21600" y="27233"/>
                </a:lnTo>
                <a:lnTo>
                  <a:pt x="0" y="27233"/>
                </a:lnTo>
                <a:close/>
              </a:path>
              <a:path fill="lightenLess" w="21600" h="272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33">
                <a:moveTo>
                  <a:pt x="21600" y="0"/>
                </a:moveTo>
                <a:lnTo>
                  <a:pt x="21600" y="27233"/>
                </a:lnTo>
                <a:lnTo>
                  <a:pt x="20200" y="25833"/>
                </a:lnTo>
                <a:lnTo>
                  <a:pt x="20200" y="1400"/>
                </a:lnTo>
                <a:close/>
              </a:path>
              <a:path fill="darkenLess" w="21600" h="27233">
                <a:moveTo>
                  <a:pt x="21600" y="27233"/>
                </a:moveTo>
                <a:lnTo>
                  <a:pt x="0" y="27233"/>
                </a:lnTo>
                <a:lnTo>
                  <a:pt x="1400" y="25833"/>
                </a:lnTo>
                <a:lnTo>
                  <a:pt x="20200" y="25833"/>
                </a:lnTo>
                <a:close/>
              </a:path>
              <a:path fill="lighten" w="21600" h="27233">
                <a:moveTo>
                  <a:pt x="0" y="272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33"/>
                </a:lnTo>
                <a:close/>
              </a:path>
              <a:path fill="darken" w="21600" h="27233">
                <a:moveTo>
                  <a:pt x="3794" y="6610"/>
                </a:moveTo>
                <a:lnTo>
                  <a:pt x="17806" y="13616"/>
                </a:lnTo>
                <a:lnTo>
                  <a:pt x="3794" y="206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90680" y="1185840"/>
            <a:ext cx="4562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пользованн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Кауфман, М.Кауфман Учебник английского языка 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py English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u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” 6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gois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rticl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details?articleId=2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http://blog.holidayhomes.c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http://myshkin.extra-m.ru/news/tehnika/2189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http://www.sosnyak.ru/news/?page=7&amp;id=4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http://bratska.ru/city/photogallery/avtor/128/369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09T09:30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