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BF9-973C-4EE8-B1C5-5D1B5299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BC0-DBB2-43FC-BF68-910CBDAB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B79-3C43-44EB-A86B-5FC75FFA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CF1-26B5-4E70-8972-86B4DCDC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4A1-B7ED-4973-A9A1-559814FB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8DB6-4553-4DDC-AA19-7C00C6E3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0959-6942-437C-96C5-0ECAC2DB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F323-BABE-487D-AC2D-78D64DDF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2B24-C64B-46A6-8AD3-2EC48F3E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13760" cy="65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66A6-4BC7-430B-9FDA-627967CE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90D8-0612-489F-99A4-E8F9C82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76A-148B-4564-A072-90D4C62B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942D-E4DE-42E8-AA0E-037E437B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A83C-FE23-4F42-8FD0-131620C2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C12-0FD3-43B0-90BF-9623B037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C3F1-D680-4F39-B070-AF4D37F3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7EE9-CA8D-46D3-92D8-17B6E3DD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ED7-46B3-4D27-8661-8111246C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8C9-16AA-4389-9C6D-5B8F4340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CD1-909E-4AA0-9EAE-3E2339EB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13760" cy="65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BA3-DC4F-40C5-8099-28B2C4B9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0FB-B127-4662-B8FD-DEAB76AB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76E-93BA-4FBA-9508-12238BA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DD2-118C-4ACD-ACEC-757623BA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24920" cy="2575080"/>
            <a:chOff x="3240" y="4267080"/>
            <a:chExt cx="9124920" cy="25750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24920" cy="25750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080" y="5896080"/>
              <a:ext cx="1241280" cy="809640"/>
              <a:chOff x="5599080" y="5896080"/>
              <a:chExt cx="1241280" cy="80964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920"/>
                <a:ext cx="828720" cy="501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5160" y="6094440"/>
                <a:ext cx="701640" cy="419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4080" y="6145200"/>
                <a:ext cx="529920" cy="312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440" y="6183360"/>
                <a:ext cx="401760" cy="2350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1440" y="6224760"/>
                <a:ext cx="290520" cy="155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080"/>
                <a:ext cx="592200" cy="2397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840" y="6615000"/>
                <a:ext cx="689040" cy="9072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080" y="6199200"/>
                <a:ext cx="127080" cy="3268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5680" y="5943600"/>
                <a:ext cx="1174680" cy="71280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280" y="5905440"/>
                <a:ext cx="137880" cy="334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7120" y="6265800"/>
                <a:ext cx="119160" cy="6984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2520"/>
              <a:ext cx="2563560" cy="1067040"/>
              <a:chOff x="2819520" y="5762520"/>
              <a:chExt cx="2563560" cy="10670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920" y="6242040"/>
                <a:ext cx="996840" cy="581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2000" y="6280200"/>
                <a:ext cx="846000" cy="50940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840" y="6311880"/>
                <a:ext cx="779400" cy="4586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680" y="6340320"/>
                <a:ext cx="690480" cy="3938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680" y="6353280"/>
                <a:ext cx="639720" cy="36504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7120" y="6386400"/>
                <a:ext cx="471600" cy="28908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9040" y="6434280"/>
                <a:ext cx="345960" cy="19836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800" y="6499080"/>
                <a:ext cx="128520" cy="810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2200" y="6066000"/>
                <a:ext cx="698400" cy="2775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8760" y="6113520"/>
                <a:ext cx="1400400" cy="71604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5360"/>
                <a:ext cx="631800" cy="7542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8680" y="6415200"/>
                <a:ext cx="157320" cy="3841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200"/>
                <a:ext cx="1309680" cy="2224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440" y="6113520"/>
                <a:ext cx="257040" cy="71424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440" y="5952960"/>
                <a:ext cx="557280" cy="876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2520"/>
                <a:ext cx="1695600" cy="65736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2080"/>
                <a:ext cx="141120" cy="35568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29480"/>
                <a:ext cx="747720" cy="99828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1640" y="5334120"/>
              <a:ext cx="2128680" cy="1285920"/>
              <a:chOff x="6551640" y="5334120"/>
              <a:chExt cx="2128680" cy="12859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5760" y="5398920"/>
                <a:ext cx="1890720" cy="11430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1640" y="5342040"/>
                <a:ext cx="847800" cy="11523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720" y="5334120"/>
                <a:ext cx="950760" cy="3841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7960"/>
                <a:ext cx="99720" cy="712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03400" cy="1573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9240"/>
                <a:ext cx="212760" cy="5252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240" y="5751360"/>
                <a:ext cx="117360" cy="12888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920" y="5637240"/>
                <a:ext cx="1122120" cy="6681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280" y="5570640"/>
                <a:ext cx="1427400" cy="8301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920" y="5541840"/>
                <a:ext cx="564840" cy="9072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60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6160"/>
                <a:ext cx="806400" cy="490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1080"/>
                <a:ext cx="692280" cy="41436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640" y="5792760"/>
                <a:ext cx="598680" cy="355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480" y="5837400"/>
                <a:ext cx="459000" cy="26496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720" y="5869080"/>
                <a:ext cx="338040" cy="2062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0040" y="5916600"/>
                <a:ext cx="185760" cy="1144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600"/>
              <a:ext cx="658800" cy="392040"/>
              <a:chOff x="8380440" y="4800600"/>
              <a:chExt cx="658800" cy="39204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6200"/>
                <a:ext cx="592200" cy="1364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600"/>
                <a:ext cx="393840" cy="712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5760"/>
                <a:ext cx="81000" cy="2318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1280" y="5149800"/>
                <a:ext cx="288720" cy="144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600" y="4827600"/>
                <a:ext cx="241200" cy="2793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0560" y="4827600"/>
                <a:ext cx="279360" cy="3175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760" y="4854600"/>
                <a:ext cx="458640" cy="2793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640" y="4896000"/>
                <a:ext cx="343080" cy="191880"/>
                <a:chOff x="8540640" y="4896000"/>
                <a:chExt cx="343080" cy="1918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640" y="4896000"/>
                  <a:ext cx="343080" cy="19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120" y="4917960"/>
                  <a:ext cx="271440" cy="14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400" y="4933800"/>
                  <a:ext cx="18288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9360"/>
                  <a:ext cx="100080" cy="5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137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0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A575E-6244-4CEC-9B2F-3996E410160B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24920" cy="2575080"/>
            <a:chOff x="3240" y="4267080"/>
            <a:chExt cx="9124920" cy="25750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24920" cy="25750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080" y="5896080"/>
              <a:ext cx="1241280" cy="809640"/>
              <a:chOff x="5599080" y="5896080"/>
              <a:chExt cx="1241280" cy="80964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920"/>
                <a:ext cx="828720" cy="501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5160" y="6094440"/>
                <a:ext cx="701640" cy="419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4080" y="6145200"/>
                <a:ext cx="529920" cy="312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440" y="6183360"/>
                <a:ext cx="401760" cy="2350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440" y="6224760"/>
                <a:ext cx="290520" cy="155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080"/>
                <a:ext cx="592200" cy="2397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840" y="6615000"/>
                <a:ext cx="689040" cy="9072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080" y="6199200"/>
                <a:ext cx="127080" cy="3268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5680" y="5943600"/>
                <a:ext cx="1174680" cy="71280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280" y="5905440"/>
                <a:ext cx="137880" cy="334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7120" y="6265800"/>
                <a:ext cx="119160" cy="6984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2520"/>
              <a:ext cx="2563560" cy="1067040"/>
              <a:chOff x="2819520" y="5762520"/>
              <a:chExt cx="2563560" cy="10670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920" y="6242040"/>
                <a:ext cx="996840" cy="581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2000" y="6280200"/>
                <a:ext cx="846000" cy="50940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840" y="6311880"/>
                <a:ext cx="779400" cy="4586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680" y="6340320"/>
                <a:ext cx="690480" cy="3938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680" y="6353280"/>
                <a:ext cx="639720" cy="36504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7120" y="6386400"/>
                <a:ext cx="471600" cy="28908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9040" y="6434280"/>
                <a:ext cx="345960" cy="19836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800" y="6499080"/>
                <a:ext cx="128520" cy="810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2200" y="6066000"/>
                <a:ext cx="698400" cy="2775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8760" y="6113520"/>
                <a:ext cx="1400400" cy="71604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5360"/>
                <a:ext cx="631800" cy="7542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8680" y="6415200"/>
                <a:ext cx="157320" cy="3841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200"/>
                <a:ext cx="1309680" cy="2224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440" y="6113520"/>
                <a:ext cx="257040" cy="71424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440" y="5952960"/>
                <a:ext cx="557280" cy="876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2520"/>
                <a:ext cx="1695600" cy="65736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2080"/>
                <a:ext cx="141120" cy="35568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29480"/>
                <a:ext cx="747720" cy="99828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1640" y="5334120"/>
              <a:ext cx="2128680" cy="1285920"/>
              <a:chOff x="6551640" y="5334120"/>
              <a:chExt cx="2128680" cy="12859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5760" y="5398920"/>
                <a:ext cx="1890720" cy="11430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1640" y="5342040"/>
                <a:ext cx="847800" cy="11523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720" y="5334120"/>
                <a:ext cx="950760" cy="3841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7960"/>
                <a:ext cx="99720" cy="712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03400" cy="1573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9240"/>
                <a:ext cx="212760" cy="5252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240" y="5751360"/>
                <a:ext cx="117360" cy="12888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920" y="5637240"/>
                <a:ext cx="1122120" cy="6681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280" y="5570640"/>
                <a:ext cx="1427400" cy="8301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920" y="5541840"/>
                <a:ext cx="564840" cy="9072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60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6160"/>
                <a:ext cx="806400" cy="490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1080"/>
                <a:ext cx="692280" cy="41436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640" y="5792760"/>
                <a:ext cx="598680" cy="355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480" y="5837400"/>
                <a:ext cx="459000" cy="26496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720" y="5869080"/>
                <a:ext cx="338040" cy="2062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0040" y="5916600"/>
                <a:ext cx="185760" cy="1144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600"/>
              <a:ext cx="658800" cy="392040"/>
              <a:chOff x="8380440" y="4800600"/>
              <a:chExt cx="658800" cy="39204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6200"/>
                <a:ext cx="592200" cy="1364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600"/>
                <a:ext cx="393840" cy="712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5760"/>
                <a:ext cx="81000" cy="2318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5149800"/>
                <a:ext cx="288720" cy="144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600" y="4827600"/>
                <a:ext cx="241200" cy="2793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0560" y="4827600"/>
                <a:ext cx="279360" cy="3175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760" y="4854600"/>
                <a:ext cx="458640" cy="2793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640" y="4896000"/>
                <a:ext cx="343080" cy="191880"/>
                <a:chOff x="8540640" y="4896000"/>
                <a:chExt cx="343080" cy="191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640" y="4896000"/>
                  <a:ext cx="343080" cy="19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120" y="4917960"/>
                  <a:ext cx="271440" cy="14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400" y="4933800"/>
                  <a:ext cx="18288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9360"/>
                  <a:ext cx="100080" cy="5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565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0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AB91E9-4A7C-48C9-B37D-D08F87A0C16C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9640" y="360360"/>
            <a:ext cx="8217000" cy="59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When you look at your life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the greatest happiness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are family happinesses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60360" y="1128600"/>
            <a:ext cx="6659640" cy="5531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-539640"/>
            <a:ext cx="77630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Family tre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79640" y="1618920"/>
            <a:ext cx="4011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00080" y="3165480"/>
            <a:ext cx="89647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17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ffff"/>
                </a:solidFill>
                <a:latin typeface="Monotype Corsiva"/>
              </a:rPr>
              <a:t>Various people-various ways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57240" y="1600200"/>
            <a:ext cx="300816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19560" y="1600200"/>
            <a:ext cx="3103560" cy="2152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67400" y="4091040"/>
            <a:ext cx="4010040" cy="1884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847800" y="3957480"/>
            <a:ext cx="3228840" cy="21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40360" y="4500720"/>
            <a:ext cx="2173320" cy="2152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580000" y="1619280"/>
            <a:ext cx="31114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539280"/>
            <a:ext cx="8820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Franklin Gothic Dem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A. The speaker is close to all the members of the family and they support each other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B. The speaker has parents which both want to bring up their children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C. The speaker is from a large family and they have some family traditions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D. The speaker has family problems and misunderstanding with parents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 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55480"/>
                <a:tab algn="l" pos="1469880"/>
                <a:tab algn="l" pos="2384280"/>
                <a:tab algn="l" pos="3298680"/>
                <a:tab algn="l" pos="4213080"/>
                <a:tab algn="l" pos="5127480"/>
                <a:tab algn="l" pos="6041880"/>
                <a:tab algn="l" pos="6956280"/>
                <a:tab algn="l" pos="7870680"/>
                <a:tab algn="l" pos="8785080"/>
                <a:tab algn="l" pos="9699480"/>
                <a:tab algn="l" pos="9977400"/>
                <a:tab algn="l" pos="10426680"/>
                <a:tab algn="l" pos="10428120"/>
                <a:tab algn="l" pos="10429920"/>
                <a:tab algn="l" pos="10431360"/>
                <a:tab algn="l" pos="10433160"/>
                <a:tab algn="l" pos="10434600"/>
                <a:tab algn="l" pos="10436400"/>
                <a:tab algn="l" pos="1043784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47840" y="4724280"/>
          <a:ext cx="5074920" cy="731880"/>
        </p:xfrm>
        <a:graphic>
          <a:graphicData uri="http://schemas.openxmlformats.org/drawingml/2006/table">
            <a:tbl>
              <a:tblPr/>
              <a:tblGrid>
                <a:gridCol w="1351440"/>
                <a:gridCol w="868680"/>
                <a:gridCol w="907560"/>
                <a:gridCol w="934920"/>
                <a:gridCol w="1012320"/>
              </a:tblGrid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P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80000" y="3780000"/>
            <a:ext cx="3287880" cy="2984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130320"/>
            <a:ext cx="8217000" cy="59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55480"/>
                <a:tab algn="l" pos="1469880"/>
                <a:tab algn="l" pos="2384280"/>
                <a:tab algn="l" pos="3298680"/>
                <a:tab algn="l" pos="4213080"/>
                <a:tab algn="l" pos="5127480"/>
                <a:tab algn="l" pos="6041880"/>
                <a:tab algn="l" pos="6956280"/>
                <a:tab algn="l" pos="7870680"/>
                <a:tab algn="l" pos="8785080"/>
                <a:tab algn="l" pos="9699480"/>
                <a:tab algn="l" pos="9977400"/>
                <a:tab algn="l" pos="10426680"/>
                <a:tab algn="l" pos="10428120"/>
                <a:tab algn="l" pos="10429920"/>
                <a:tab algn="l" pos="10431360"/>
                <a:tab algn="l" pos="10433160"/>
                <a:tab algn="l" pos="10434600"/>
                <a:tab algn="l" pos="10436400"/>
                <a:tab algn="l" pos="10437840"/>
                <a:tab algn="l" pos="1078056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Children and adults in harmonious families are happy and sincere. Each family could be a happy one if  its members  find the way of spending  pastime toget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09-02-18T19:29:06Z</dcterms:modified>
  <cp:revision>6</cp:revision>
  <dc:subject/>
  <dc:title>Исследовательская работа по правоведению:</dc:title>
</cp:coreProperties>
</file>