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D8D-6125-44F1-8608-1457338B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A3A-4AB4-46EF-B8FF-63FA33A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7FA-652C-48D1-AD71-3C0F3346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952-EB9A-4F74-89E1-B531526F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A55C-A18E-49B4-830B-E3609CC8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7E5-04C2-4CFA-B500-4DFF213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3F32-B12E-4A5E-8E0A-327E56F3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F504-1FF7-403A-A4A8-951AAA3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6EE-3A2D-4195-9290-48693F2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B0E-7F6F-44D1-8606-3FD301BB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CA4F-D6A4-4967-831B-98227F97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B5A-D8AF-40BD-9319-147374F7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D81-F392-4165-B3AD-3B9A607A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917-687A-4CD1-A77C-8F536F2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E50-1196-40E0-95B3-4D4CDA1A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F51-6B5B-45A5-BC1D-205CB360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A380-D705-4F7A-9245-9035091A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FF9-CDA3-4874-80FD-12535B22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1C6-358B-4A59-9FE9-D99A5E0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7C2-AC1D-4C03-9910-6697ECC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626-C75F-4064-9091-8B7C34B0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403-50DE-4EC2-A724-7D246D58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638-463D-4663-A5BF-509E627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6A4-0C69-4EB2-8DD9-677798C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c9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a2a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04D-2A38-41BA-9C62-3E7E2595CA2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a2a40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c9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a2a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1C6-8155-4A71-A3BA-E4CB54F4E72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stpilot.ru/espace/bibl/golovanov/doroga/24.html" TargetMode="External"/><Relationship Id="rId2" Type="http://schemas.openxmlformats.org/officeDocument/2006/relationships/hyperlink" Target="http://www.sgap.ru/news.phtml?22-04-2009-2" TargetMode="External"/><Relationship Id="rId3" Type="http://schemas.openxmlformats.org/officeDocument/2006/relationships/hyperlink" Target="http://www.spr.ru/novosti/2011-04/roskosmos-rassekretil-gibel-yuriya-gagarina.html" TargetMode="External"/><Relationship Id="rId4" Type="http://schemas.openxmlformats.org/officeDocument/2006/relationships/hyperlink" Target="http://www.sports.ru/tribuna/blogs/kaleidoscope/179597.html" TargetMode="External"/><Relationship Id="rId5" Type="http://schemas.openxmlformats.org/officeDocument/2006/relationships/hyperlink" Target="http://www.sports.ru/tribuna/blogs/kaleidoscope/179597.html" TargetMode="External"/><Relationship Id="rId6" Type="http://schemas.openxmlformats.org/officeDocument/2006/relationships/hyperlink" Target="http://www.sports.ru/tribuna/blogs/kaleidoscope/179597.html" TargetMode="External"/><Relationship Id="rId7" Type="http://schemas.openxmlformats.org/officeDocument/2006/relationships/hyperlink" Target="http://www.sports.ru/tribuna/blogs/kaleidoscope/179597.html" TargetMode="External"/><Relationship Id="rId8" Type="http://schemas.openxmlformats.org/officeDocument/2006/relationships/hyperlink" Target="http://www.sports.ru/tribuna/blogs/kaleidoscope/179597.html" TargetMode="External"/><Relationship Id="rId9" Type="http://schemas.openxmlformats.org/officeDocument/2006/relationships/hyperlink" Target="http://www.sports.ru/tribuna/blogs/kaleidoscope/179597.html" TargetMode="External"/><Relationship Id="rId10" Type="http://schemas.openxmlformats.org/officeDocument/2006/relationships/hyperlink" Target="http://www.sports.ru/tribuna/blogs/kaleidoscope/179597.html" TargetMode="External"/><Relationship Id="rId11" Type="http://schemas.openxmlformats.org/officeDocument/2006/relationships/hyperlink" Target="http://www.sports.ru/tribuna/blogs/kaleidoscope/179597.html" TargetMode="External"/><Relationship Id="rId12" Type="http://schemas.openxmlformats.org/officeDocument/2006/relationships/hyperlink" Target="http://www.sports.ru/tribuna/blogs/kaleidoscope/179597.html" TargetMode="External"/><Relationship Id="rId13" Type="http://schemas.openxmlformats.org/officeDocument/2006/relationships/hyperlink" Target="http://www.sports.ru/tribuna/blogs/kaleidoscope/179597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He was the first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2476440"/>
            <a:ext cx="3301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is the first cosmonaut of the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Картинка 8 из 49616"/>
          <p:cNvPicPr/>
          <p:nvPr/>
        </p:nvPicPr>
        <p:blipFill>
          <a:blip r:embed="rId1"/>
          <a:stretch/>
        </p:blipFill>
        <p:spPr>
          <a:xfrm>
            <a:off x="3049560" y="1600200"/>
            <a:ext cx="3043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was born in the village of Klushino in Smolensk region on the 9-th of March, 1934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65160" y="2120760"/>
            <a:ext cx="3978360" cy="268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03640" y="3487680"/>
            <a:ext cx="32306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Yuri Gagarin was a student of Technical Secondary School in Saratov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36800" y="1838160"/>
            <a:ext cx="3948120" cy="248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17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 was a member of the aeroclub in Saratov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48120" y="3033720"/>
            <a:ext cx="3670560" cy="2779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590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Yuri Gagarin flue into space on the spaceship “Vostok” on the 12-th of April, 196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6255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was 108 minutes in the spa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5718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ere is a monument to Yuri Gagarin in Sarato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26640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ресурс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www.testpilot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sgap.r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www.spr.ru/novosti/2011-04/roskosmos-rassekretil-gibel-yuriya-gagarina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www.sports.ru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tribuna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blogs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kaleidoscope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/179597.htm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33:21Z</dcterms:created>
  <dc:creator>User</dc:creator>
  <dc:description/>
  <dc:language>en-US</dc:language>
  <cp:lastModifiedBy>User</cp:lastModifiedBy>
  <dcterms:modified xsi:type="dcterms:W3CDTF">2012-04-04T14:54:09Z</dcterms:modified>
  <cp:revision>2</cp:revision>
  <dc:subject/>
  <dc:title>Слайд 1</dc:title>
</cp:coreProperties>
</file>