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962-1CAA-412E-9E8D-A3687F64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321-9C33-44F4-B45C-EBF5B94F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D2D5-03BD-49A5-A1BF-3CD1667C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869-E249-4CB0-BC91-27C99495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C510-4C47-44D6-9BEA-98E28B2A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0B33-97F8-4773-925C-56AF72D1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7E40-BCE7-4B30-B416-472DD292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179A-8123-403E-9D3B-E542AE1B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B533-CAF2-400D-975E-9CA05D13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E824-7668-40CC-8A0A-AC47570C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B71A-33A9-4452-B722-E43178FC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AA03-E5B0-4844-9B18-D4211CB0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E3E7-032F-49B0-AECA-D736B9C2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B30D-79D5-4865-824F-66C36931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F9E8-64DF-410F-AA69-2DE4E0B8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54F8-5845-423C-B505-12D21C39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E3F3-298D-41D1-BA8D-21FB8FA5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7DE-81F5-4F02-813A-FDB733EA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2195-B2E0-4DC1-8087-7FF4B374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FEB6-4962-4340-AC27-16E7CB81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3D9F-4C16-4DCC-BFAB-1A9675B1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3D4B-2718-4999-ADCD-0BBAC37D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323-D083-458C-A2F9-A14B3778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E5A-ED22-40DF-AE19-BD684B8F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9A8F-F1EE-45B8-A2CD-7C36C9292B2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1026-AC01-4739-A3B2-D74F89F0220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ictory day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76360" y="1662120"/>
            <a:ext cx="61912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57200" y="260280"/>
            <a:ext cx="4038480" cy="6193080"/>
            <a:chOff x="457200" y="260280"/>
            <a:chExt cx="4038480" cy="61930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457200" y="260280"/>
              <a:ext cx="4038480" cy="619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 txBox="1"/>
            <p:nvPr/>
          </p:nvSpPr>
          <p:spPr>
            <a:xfrm>
              <a:off x="457200" y="260280"/>
              <a:ext cx="4038480" cy="619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cc66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259920"/>
            <a:ext cx="40384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r dread nor hope att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dying animal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man awaits his 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eading and hoping all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y times he died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y times rose aga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great man in his pr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fronting murderous 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ts derision up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ersession of breath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knows death to the b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 has created dea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ag 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ла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ogan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озун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nstration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монстр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eting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тин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треч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tera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ветер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ilitary parade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енны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ра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end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щищ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eat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раж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dier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да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ro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р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3280" y="2271600"/>
            <a:ext cx="4032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2577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285264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e trees and pear trees were a flower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ver mist was rising all arou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ng Katyusha went strolling by the h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the steep bank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'er the rocky grou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3280" y="260280"/>
            <a:ext cx="4054680" cy="5761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3887640" cy="57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the river's bank she sang a love s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her hero in a distant 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the one she'd dearly loved for so long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ding tight his letters in her h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0" y="274680"/>
            <a:ext cx="4114800" cy="5675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3959280" cy="58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, my song, song of a maiden's true lov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my dear one travel with the su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the one who Katyusha loves so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ng my greetings to him, one by 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30099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him know that I am true and faithful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him hear the love song that I se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ll him as he defends our home that grateful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e Katyusha our love will defen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30099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e trees and pear trees were a flower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ver mist was rising all a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ng Katyusha went strolling by the ho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the steep bank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'er the rocky g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01:50:18Z</dcterms:created>
  <dc:creator>Антон</dc:creator>
  <dc:description/>
  <dc:language>en-US</dc:language>
  <cp:lastModifiedBy>Антон</cp:lastModifiedBy>
  <dcterms:modified xsi:type="dcterms:W3CDTF">2013-04-29T02:06:15Z</dcterms:modified>
  <cp:revision>2</cp:revision>
  <dc:subject/>
  <dc:title>Victory day.</dc:title>
</cp:coreProperties>
</file>