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718-3955-4D87-8612-ABA60B5C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5A9D-45DE-45BF-9C28-6F31E495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40A-FEEA-4C73-837D-6A7975C4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BF4-F410-41C8-B0AD-81EF5447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D04-6471-4C43-903C-C57FF846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DAA-401A-4E53-899B-36CCB63E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028-8DF3-469B-9920-5BE02BE3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AC0-9917-4070-9AAC-1DA67BE1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A18-1BEB-4C2B-861B-ABBD224E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C32-3E45-4504-A4D4-3DB5C3B5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931-CADA-442C-8B1C-969AD501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AAB-48B5-435B-8503-43551AC3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C457-2492-47C1-8028-14FFD95B1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 the English words and their transl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e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ecl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и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ru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ш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present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, семес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o ob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ра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mend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зая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, законопрое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e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ecl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и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ru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ш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present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, семес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ob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опра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n amend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я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, законопрое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e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оддерж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ecl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и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ru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ш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present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, семес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ob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ра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mend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я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, законопрое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ju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v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со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ed fo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iti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и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ь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ec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жда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ju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оруженные си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ou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 ju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v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со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ed fo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iti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и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удь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ec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жда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ju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оруженные си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ou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ju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o v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голосо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ed fo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iti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и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ь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ec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жда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ju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оруженные си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ou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ju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v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со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rmed fo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iti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и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ь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ec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жда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ju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ооруженные си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ou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ju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v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со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ed fo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 citi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и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ь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ec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гражда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ju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оруженные си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ou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ju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v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со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ed fo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iti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и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ь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ec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жда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ju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оруженные си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ou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аб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ju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еш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v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со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ed fo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iti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и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ь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 dec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жда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ju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оруженные си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ou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e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ecl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и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ru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ш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present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, семес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ob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ра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mend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я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, законопрое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ju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v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со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ed fo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iti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уди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ь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ec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жда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o ju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оруженные си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ou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ju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v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со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ed fo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iti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и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ь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ec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жда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ju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оруженные си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l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ыбо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ou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ju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v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со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ed fo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у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iti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и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ь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ec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жда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ju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оруженные си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 cou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o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e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ecl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оддержи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ru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ш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present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, семес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ob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ра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mend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я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, законопрое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e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ecl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и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ru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ш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present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, семес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ob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ра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mend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я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чет, законопрое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едста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o re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ecl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и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ru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ш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present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, семес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ob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ра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mend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я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, законопрое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e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 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ecl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и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ru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ш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present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четверть, семес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ob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ра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mend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я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, законопрое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e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o decl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и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ru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ш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present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, семес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ob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ра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mend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зая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, законопрое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e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т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ecl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и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 tru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ш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present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, семес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ob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ра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mend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я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, законопрое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едст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e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ecl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и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ru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ш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 represent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, семес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ob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ра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mend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явл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, законопрое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10T05:50:2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