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7FA-426B-43FF-BE96-C500BC63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DF0-48FB-4A30-861F-86457B9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89A-8EA4-4FCB-9715-5BE71B04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27-DA91-4337-AC29-934BD9B3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283-F2B0-4E91-8109-4D8B24F9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B11-D284-44EA-94C3-B9FD2362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7CE-3A7C-4B98-BC72-593C131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AD4-27A4-4D2A-B3A5-9A8DF07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2D2-C0BA-4520-BA05-F78DDAF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2AB-65FD-4A90-A330-687AC27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137-2503-457A-9DB3-1871F90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ADA-1541-41DC-98E5-2FE59A0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2EA-C5D9-4075-A5BE-83FA4EA0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ge 244 ex.2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6002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There are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mendments to the US Constitu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There are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26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mendments to the US Constitutio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5480" y="1143000"/>
            <a:ext cx="828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. The Bill of Rights guarantees to people of the USA such important rights as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. The Bill of Rights guarantees to people of the USA such important rights as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he right to go to court, have a lawyer, and some other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81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the 26th amendment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In 197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the 2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mendment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gave people 18 years old and older the right to vo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057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. The second branch of government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. The second branch of government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is the President and his helper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220968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. The Congress is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. The Congress is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a meeting of representatives from all st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5238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US Constitution was written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6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. The Congress meets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. The Congress meets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in the US Capitol in Washington D.C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3623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. There are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enators in the Sen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. There are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one hundr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enators in the Sen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90512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The number of congressmen from each state depends on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The number of congressmen from each state depends on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he number of people who live in the sta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57240" y="280368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declare w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One important power of the Congress is the power t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declare w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8288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4. The President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then they become law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4. The President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signs bill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then they become law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US Constitution was written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ore than 200 years ag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… is Commander in Chie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he US Preside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Commander in Chie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7524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The judges work in the Supreme Court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The judges work in the Supreme Court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as long as they liv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0512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The President’s term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The President’s term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is four year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0T06:47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