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C6F-F59C-42DC-8AB7-4821840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BDD-73F3-4732-B796-7AD9302C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99F-1810-4D2E-B40B-67283ADB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D13-8383-4DE3-9454-E50465C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DBC-AF95-461B-BE2C-0C9E014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EB2-5C34-4636-A7C6-D4A15920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B4D-9412-415E-B1E8-3EB5CDC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137-BBA4-40F0-9D0A-35C0423A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708-8659-4033-8D74-E25E430F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3D9-1223-4097-9B0C-37EE0D8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43-600D-480C-A894-97B1729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160-6382-4BC0-AF4C-B833FEA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F035-C0B2-4636-B90E-6D5940BE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lang="ru-RU" sz="9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Political System of the USA and Russi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ussian Govern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371240" y="762120"/>
            <a:ext cx="10666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838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914400"/>
            <a:ext cx="13716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536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igina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зд. действу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s amende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ыло измен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ncil of Minister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овет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минис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Федеральное собр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 Dum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Государственная Д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deration Counc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овет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зд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ок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utie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депу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oose the right ans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overnment of Russia consists of …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ident and the Prime Minister.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ident and the Council of Ministers.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ident, the Council of Ministers and the Federal Assem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… Houses in the Federal Assembly.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a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wo 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b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ree 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ead of the Russian Federation is … .</a:t>
            </a:r>
            <a:br>
              <a:rPr sz="48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a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President 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b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Prime Minister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peaker of th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Du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686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The</a:t>
            </a: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dobe Garamond Pro Bold"/>
              </a:rPr>
              <a:t>Russian</a:t>
            </a: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Adobe Garamond Pro Bold"/>
              </a:rPr>
              <a:t>Gov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096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 hel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886200"/>
            <a:ext cx="38862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ncil of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Prime Min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209680"/>
            <a:ext cx="35812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038480"/>
            <a:ext cx="2514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ederal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e upper Ho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5410080"/>
            <a:ext cx="2133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te D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e lower Ho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2952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295280"/>
            <a:ext cx="533520" cy="2667240"/>
          </a:xfrm>
          <a:prstGeom prst="downArrow">
            <a:avLst>
              <a:gd name="adj1" fmla="val 50000"/>
              <a:gd name="adj2" fmla="val 12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2952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276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34520" y="3276720"/>
            <a:ext cx="380880" cy="2133360"/>
          </a:xfrm>
          <a:prstGeom prst="downArrow">
            <a:avLst>
              <a:gd name="adj1" fmla="val 50000"/>
              <a:gd name="adj2" fmla="val 140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6T05:46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