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E53C-C13D-439C-931F-45518B6A2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66AA-4B73-4469-B9A8-7560EA15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523F-DB95-449F-A9C6-6AE5E96D7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0062-E752-47B1-AC03-B499B30C5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582A-D5C9-46FA-9A23-39E3803B7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A43E-2983-4802-80A8-A048A9D6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ADFB-CF89-4C8C-B1F4-8EA95619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F0D4-E9FE-4193-8DEF-EAF178E2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7CEF-4592-4AD8-8F7A-77903703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D45A-6673-4323-B4AD-7152FA20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BC775-5C9B-4483-BD71-7CC2EB23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34E9-4242-4F0A-BABC-84160411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9F1F-3DB3-4CC7-9030-6B37E5CF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C226-ADFE-4C3E-BD6A-BEFBA8CA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81F1-49DC-4680-962D-2F80BD05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CED8-B9D6-4E5D-BFCC-528CB25AA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831B-34C2-4930-ACD7-3C192348F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77FD4-8084-40ED-A8AC-BC210B9EC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20FFD-C0BC-4C89-ACD6-8AB10C66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8CD82-5912-4C3F-BB69-5CED9101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2F8C4-F4FC-49C6-9E97-E237B0DA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67092-3877-4CF4-AD97-1D1650E5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6E64-08F0-4B61-A223-9E36241C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B9E6A-DE33-4DB4-860B-CE0EFBDF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23639-9DB7-4FC5-A4C9-8E1484E5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95F97-3D2C-4C13-938F-9AC35B26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20F1A-8DDD-4FDE-94D2-7F3847DE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7C88D-FDD1-4FBC-8203-CF83ADE1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BC945-83B8-402B-942D-201D84589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A6D4D-EB71-4755-B870-5084881C2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AD703-39D3-4D64-8657-AD23088E5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9C712-981B-4EEB-A8D5-A9D73CF3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76FB7-A744-4721-BBD7-0F0A6FA7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954A-E73A-48B7-A110-2375BD6C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4D427-7D7B-4A28-A983-8BDD16BB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0EBBC-F91D-4C6C-86AC-E0450E90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FE518-3116-4105-A151-DE651499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D8233-DD1E-4BD5-B03A-584CE7EF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52326-E6FE-4098-A20B-690E7102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AEA9F-8439-40F0-9C6C-98737CB3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A99E6-6BFC-44DE-8824-6A1BF27D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1EA16-AEC3-4139-8B64-09E9141A7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9BB2D-8545-4EF5-BB02-BCC09D80C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FE075-FC70-4045-9988-C1EA08A95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9489-EE47-452B-97AA-9BA2AEE4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31FAF-8EC2-408E-924A-43AAB1D5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153C3-D7DC-4957-B411-A0E8A748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1DC9A-D506-4377-8804-61457EB1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C47EB-6B1C-44BA-9771-464F3901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80A45-D58A-498E-878F-BDFEE0F3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6C001-1EAE-43E0-AAB2-67C37F06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8830D-B15C-4967-8D25-69DAB6B1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07E9A-2400-4846-A016-F527AB2E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2463D-AD7B-4260-B007-AA46CE9D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BA3D3-7D59-4E25-AF30-2D8FF7DCD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C99D-76A2-44E3-BEA6-F5795525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E121E-A5EA-40BC-B78F-79410321E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B828-C9E5-419F-94B2-B9F0F699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FFB3-0D59-427C-BB46-23567D65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23CF-6F98-4011-ADB1-8143456D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370C-3A75-4E9B-A185-3594D6627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42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43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7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44B0-37E1-4477-BA22-6A22B560E56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3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3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4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dt" idx="7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5C17-0074-4044-AB2B-1FD9AF41194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5F49-BFE3-46EA-9888-8559039AB3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24E4-19C1-491E-8738-3FBBFA36FF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TextBox 3" descr=""/>
          <p:cNvPicPr/>
          <p:nvPr/>
        </p:nvPicPr>
        <p:blipFill>
          <a:blip r:embed="rId1"/>
          <a:stretch/>
        </p:blipFill>
        <p:spPr>
          <a:xfrm>
            <a:off x="493560" y="390600"/>
            <a:ext cx="8229600" cy="822240"/>
          </a:xfrm>
          <a:prstGeom prst="rect">
            <a:avLst/>
          </a:prstGeom>
          <a:ln w="0">
            <a:noFill/>
          </a:ln>
        </p:spPr>
      </p:pic>
      <p:pic>
        <p:nvPicPr>
          <p:cNvPr id="506" name="Рисунок 6" descr="i.jpg"/>
          <p:cNvPicPr/>
          <p:nvPr/>
        </p:nvPicPr>
        <p:blipFill>
          <a:blip r:embed="rId2"/>
          <a:stretch/>
        </p:blipFill>
        <p:spPr>
          <a:xfrm>
            <a:off x="82440" y="1571760"/>
            <a:ext cx="5132520" cy="52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ue, false or don’t know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US Constitution was written in the city of New Yor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merican Government consists of four branch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esident’s term is four yea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are 453 congressmen in the House of Representativ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ongress makes laws of the count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4557600" y="3414600"/>
            <a:ext cx="28800" cy="2880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900000" y="476280"/>
            <a:ext cx="6697800" cy="592128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539640" y="1052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doni MT Black"/>
              </a:rPr>
              <a:t>the Con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79280" y="3740040"/>
            <a:ext cx="36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doni MT Black"/>
              </a:rPr>
              <a:t>the President and his hel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651640" y="3933720"/>
            <a:ext cx="316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doni MT Black"/>
              </a:rPr>
              <a:t>Supreme Cou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724360" y="554040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odoni MT Black"/>
              </a:rPr>
              <a:t>the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2700360" y="1557360"/>
            <a:ext cx="1008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2123640" y="3716280"/>
            <a:ext cx="158436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003640" y="3357720"/>
            <a:ext cx="136872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995640" y="4724280"/>
            <a:ext cx="180036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merican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at is the US Congress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ow is it divided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4419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does the President do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685800" y="1523880"/>
            <a:ext cx="365760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ow long do the judges work in the Supreme Court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40384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ow old is the US Constitution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03848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ow many amendments to the Constitution were in the Bill of Rights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40384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6" name=""/>
          <p:cNvSpPr/>
          <p:nvPr/>
        </p:nvSpPr>
        <p:spPr>
          <a:xfrm>
            <a:off x="1295280" y="1600200"/>
            <a:ext cx="533520" cy="1981080"/>
          </a:xfrm>
          <a:prstGeom prst="downArrow">
            <a:avLst>
              <a:gd name="adj1" fmla="val 50000"/>
              <a:gd name="adj2" fmla="val 92831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33520" y="3581280"/>
            <a:ext cx="2286000" cy="129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762120" y="4876920"/>
            <a:ext cx="38088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28600" y="51418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0" y="55627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514600" y="4648320"/>
            <a:ext cx="60948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286000" y="53341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191120" y="1600200"/>
            <a:ext cx="380880" cy="1219320"/>
          </a:xfrm>
          <a:prstGeom prst="downArrow">
            <a:avLst>
              <a:gd name="adj1" fmla="val 50000"/>
              <a:gd name="adj2" fmla="val 8003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603600" y="3116160"/>
            <a:ext cx="203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819520" y="2819520"/>
            <a:ext cx="3200400" cy="19047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esid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his hel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086600" y="1600200"/>
            <a:ext cx="533520" cy="1905120"/>
          </a:xfrm>
          <a:prstGeom prst="downArrow">
            <a:avLst>
              <a:gd name="adj1" fmla="val 50000"/>
              <a:gd name="adj2" fmla="val 89271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943600" y="3581280"/>
            <a:ext cx="2971800" cy="18288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upr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04920" y="304920"/>
            <a:ext cx="8458200" cy="14475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the American Gover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057400" y="5410080"/>
            <a:ext cx="3352680" cy="1447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Represent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0" y="5486400"/>
            <a:ext cx="198108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e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3-11T03:09:5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