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0D0-2E2C-425E-A9F0-F6413F0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8E4-B505-43AC-956B-074A74B7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016-1900-45F6-A9B4-5E1A2D70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A72-B583-4852-93E4-E150BE28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7633-E6FA-4C8C-836B-B1A8A6E7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8361-FB63-42BA-A2B8-0A6E7CA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DBF2-6C34-4E28-ADF2-FF06CB6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3572-6EE5-424D-8DFC-CB75D889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39C1-75E0-4E6B-8D80-DF642F91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ABAA-5558-4C8A-A325-1AB08668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DEAB-545A-4D52-8CA2-D02705BD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211-F2DB-4ECB-825A-719FED1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1E3-7E51-4B1B-90FF-5403E4B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A099-BC53-49EB-AFFE-F3F72A8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E5EE-2332-4C74-80D5-EB1C5CE9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A7F8-3877-4584-B680-8DEF530B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DE74-D8CC-4DDD-9523-801459D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646-270E-443F-9D36-2E7B41B0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19F-CD13-456A-8BCC-6E4FB57A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55F-BB7B-4D24-844B-C0CC452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E36-B206-4D9D-8C6D-4A61ED58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CF6-50B7-490B-A60C-62DC9A9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567-B0E4-4B17-8F7F-4DBD518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7A7-53E9-4C39-A648-D1E56B9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Oval 6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Group 8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Oval 9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8153280" y="152640"/>
              <a:ext cx="508320" cy="3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1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Oval 12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4ED-43BD-4207-AF00-F27ED494B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2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Oval 5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Oval 8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Oval 11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6" name="Text Box 17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8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9AC5-5CAE-499C-B5C7-635E31CC0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1288778784_1283765442_shutt"/>
          <p:cNvPicPr/>
          <p:nvPr/>
        </p:nvPicPr>
        <p:blipFill>
          <a:blip r:embed="rId1"/>
          <a:stretch/>
        </p:blipFill>
        <p:spPr>
          <a:xfrm>
            <a:off x="6622920" y="3798720"/>
            <a:ext cx="2521080" cy="3075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603360" y="1484280"/>
            <a:ext cx="78786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Тема: Обобщение и закрепление оборотов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There is/There are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There was/There w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дзаголовок 4"/>
          <p:cNvSpPr/>
          <p:nvPr/>
        </p:nvSpPr>
        <p:spPr>
          <a:xfrm>
            <a:off x="611280" y="4979880"/>
            <a:ext cx="705636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entury Gothic"/>
              </a:rPr>
              <a:t>Автор: Цымбал Н.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entury Gothic"/>
              </a:rPr>
              <a:t>Место работы: школа 13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entury Gothic"/>
              </a:rPr>
              <a:t>Должность: </a:t>
            </a: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учитель английского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8800" y="476280"/>
            <a:ext cx="74898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 Read the tex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30080" y="1484280"/>
            <a:ext cx="7490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Dear Bo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Here is the plan of Jack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`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 flat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There is a kitchen, a bathroom, a toilet and four rooms: a living room, a bedroom, Jack`s room, and Kate`s room. The flat is not very big. Where is the room for Sam? In my house, for example, there are two toilets, two bedrooms, a living room, a dining room, and a guest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9640" y="333360"/>
            <a:ext cx="7608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 Answer the question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50920" y="1700280"/>
            <a:ext cx="7608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. Are there many rooms in Jack`s fl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. Is there a kitchen in Jack`s fl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. Is there a bathroom in Jack`s fl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4. Is there a balcony in Jack`s fl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5. Is the flat not very bi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encrypted-tbn2.google.com/images?q=tbn:ANd9GcR6p3Klhtzp4DqxbnPaa0y29kxIsA9gQq8F9KzhstrnhYvk614wOQ"/>
          <p:cNvPicPr/>
          <p:nvPr/>
        </p:nvPicPr>
        <p:blipFill>
          <a:blip r:embed="rId1"/>
          <a:stretch/>
        </p:blipFill>
        <p:spPr>
          <a:xfrm>
            <a:off x="7353360" y="4041720"/>
            <a:ext cx="17906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195640" y="1847880"/>
            <a:ext cx="475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m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s there an armchair in your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re isn`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carpet in your 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49016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. Микродиало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https://encrypted-tbn3.google.com/images?q=tbn:ANd9GcQbUM_by7zkPc2-0X8__cX37hHzdHC9JopCIvY4xqZSbZqBvVnZ6w"/>
          <p:cNvPicPr/>
          <p:nvPr/>
        </p:nvPicPr>
        <p:blipFill>
          <a:blip r:embed="rId1"/>
          <a:stretch/>
        </p:blipFill>
        <p:spPr>
          <a:xfrm>
            <a:off x="6300720" y="3573360"/>
            <a:ext cx="2843280" cy="324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https://encrypted-tbn2.google.com/images?q=tbn:ANd9GcTvYdkN0-YH_yUeZpD1gfFm7eEgUx6C7B-44YTaV0bgRLFYkGpUJg"/>
          <p:cNvPicPr/>
          <p:nvPr/>
        </p:nvPicPr>
        <p:blipFill>
          <a:blip r:embed="rId2"/>
          <a:stretch/>
        </p:blipFill>
        <p:spPr>
          <a:xfrm>
            <a:off x="4680" y="4973760"/>
            <a:ext cx="219096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s://encrypted-tbn1.google.com/images?q=tbn:ANd9GcQMk-08S1ZvT4QBwAizIzYjNdXwVTOB1ARb6VgiIDg0zbxUH8_1"/>
          <p:cNvPicPr/>
          <p:nvPr/>
        </p:nvPicPr>
        <p:blipFill>
          <a:blip r:embed="rId3"/>
          <a:stretch/>
        </p:blipFill>
        <p:spPr>
          <a:xfrm>
            <a:off x="142920" y="1854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49016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ok at the picture and answer.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5440" y="3357720"/>
            <a:ext cx="4451400" cy="3311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55440" y="1916280"/>
            <a:ext cx="89805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re are books on it. It is not a shelf.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530600" y="3357720"/>
            <a:ext cx="45054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t is in my room. I can sit on it. You may sleep on it.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637160" y="5022720"/>
            <a:ext cx="4505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It is in my room. I can sit on it and read books.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49016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. Find the ca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http://4.bp.blogspot.com/_rXCS5h4t9XI/TLqukxYoHQI/AAAAAAAAAJ8/HPUONWfmLd8/s400/many-cats-in-the-room.jpg"/>
          <p:cNvPicPr/>
          <p:nvPr/>
        </p:nvPicPr>
        <p:blipFill>
          <a:blip r:embed="rId1"/>
          <a:stretch/>
        </p:blipFill>
        <p:spPr>
          <a:xfrm>
            <a:off x="1042920" y="1916280"/>
            <a:ext cx="7058160" cy="474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рия одной квартир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https://encrypted-tbn0.google.com/images?q=tbn:ANd9GcRN0MmjTTdT_H7nHsWwMuC0t6tNJ1m0AB0RkhGZQ5aDymgYUG2s"/>
          <p:cNvPicPr/>
          <p:nvPr/>
        </p:nvPicPr>
        <p:blipFill>
          <a:blip r:embed="rId1"/>
          <a:stretch/>
        </p:blipFill>
        <p:spPr>
          <a:xfrm>
            <a:off x="1116000" y="1989000"/>
            <a:ext cx="6840720" cy="4552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0:16:36Z</dcterms:created>
  <dc:creator>Юленька :)</dc:creator>
  <dc:description/>
  <dc:language>en-US</dc:language>
  <cp:lastModifiedBy>Пользователь</cp:lastModifiedBy>
  <dcterms:modified xsi:type="dcterms:W3CDTF">2012-09-10T16:32:25Z</dcterms:modified>
  <cp:revision>16</cp:revision>
  <dc:subject/>
  <dc:title>Слайд 1</dc:title>
</cp:coreProperties>
</file>